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0D2-B758-4BFD-A366-71CE5D58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5B2-1494-4360-AE19-CD67CCAC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802-4F24-4674-9845-85E0D35F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B88-C561-418B-B6B1-EDF7F627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5D9-0769-4589-9FDC-381F8E62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F89-D813-497E-BD31-EB75C313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E75-0EAF-4F6A-A0A5-931AF444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C6A-302C-4545-9BC8-59A1E647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6C7-7F5B-4543-AB7B-BAFEF06E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AED-2C1B-41EB-97D0-92975980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E43-CF71-4531-89A2-69DA836B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382-ECD4-4A35-9DD9-AD213BC0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314F-650C-4659-A92A-C06699AE45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第一节   土石方工程定额说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本章包括单独土石方、人工土石方、机械土石方及其他四项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单独土石方定额，适用于自然地坪与设计室外地坪之间，且挖方或填方工程量大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0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土石方工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人工土石方定额是按干土编制的。干、湿土的划分，以地质勘测资料的地下水位为界，以上为干土，以下为湿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523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0468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挡土板定额分为疏板和密板。疏板是指间隔支挡土板，且板间净空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ｍ的情况；密板是指满支挡土板或板间净空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ｍ的情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58920" y="2276640"/>
          <a:ext cx="6408720" cy="28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76640"/>
                    <a:ext cx="640872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908000" y="5228280"/>
            <a:ext cx="49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 密撑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b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疏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38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横撑式支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095640" cy="4680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挡土板下挖槽坑土时，相应定额人工乘以系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4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挡土板按施工组织设计规定的支挡范围，以平方米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9370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23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9079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桩间挖土，系指桩顶设计标高以下的挖土及设计标高以上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ｍ范围内的挖土。挖土时不扣除桩体体积，相应定额项目人工、机械乘以系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7650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机械土方定额项目是按土壤天然含水率编制的。开挖地下常水位以下的土方时，定额人工、机械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5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采取降水措施后的挖土不再乘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321300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机械挖土方，应满足设计砌筑基础的要求，其挖土总量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，执行机械土方相应定额；其余按人工挖土。人工挖土套用相应定额时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125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　　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人力车、汽车的重车上坡降效因素，已综合在相应的运输定额中，不另行计算。挖掘机在垫板上作业时，相应定额的人工、机械乘以系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2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挖掘机下的垫板、汽车运输道路上需要铺设的材料，发生时，其人工和材料均按实另行计算。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62064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土石方的开挖、运输，均按开挖前的天然密实体积，以立方米计算。土方回填，按回填后的竣工体积，以立方米计算。不同状态的土方体积，按下表换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 rot="10800000">
            <a:off x="1403280" y="2852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土方体积换算系数表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4360" y="3429000"/>
          <a:ext cx="7848360" cy="2395440"/>
        </p:xfrm>
        <a:graphic>
          <a:graphicData uri="http://schemas.openxmlformats.org/drawingml/2006/table">
            <a:tbl>
              <a:tblPr/>
              <a:tblGrid>
                <a:gridCol w="1980720"/>
                <a:gridCol w="1981440"/>
                <a:gridCol w="2057400"/>
                <a:gridCol w="1828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虚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松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天然密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夯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4842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某工程外购黄土用于室内回填，已知室内回填土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试求买土的数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解：室内回填土按夯填考虑，工程量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套定额：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4-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买土体积按虚方计算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买土数量＝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×1.50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0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1052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、自然地坪与设计室外地坪之间的土石方，依据设计土方平衡竖向布置图，以立方米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42900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基础土石方开挖深度，自设计室外地坪计算至基础底面，有垫层时计算至垫层底面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如遇爆破岩石，其深度应包括岩石的允许超挖深度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854440"/>
            <a:ext cx="201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45356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1932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264360" cy="3313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43280" y="62064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中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工作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机械土石方定额，机械挖土方，其挖土总量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执行机械土方相应定额，其余按人工挖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其他定额，包括场地平整与竣工清理、打夯与碾压及回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场地平整，是指建筑物所在现场厚度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以内的就地挖、填及平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竣工清理，是指建筑物及四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范围内的建筑垃圾清理、场内运输和指定地点的集中堆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土类为单一土质时，普通土开挖深度大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ｍ、坚土开挖深度大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７ｍ，允许放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土类为混合土质时，开挖深度大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ｍ，允许放坡。放坡坡度按不同土类厚度加权平均计算综合放坡系数。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2997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31366" t="8221" r="31366" b="47922"/>
          <a:stretch/>
        </p:blipFill>
        <p:spPr>
          <a:xfrm>
            <a:off x="1835280" y="3716280"/>
            <a:ext cx="5292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1932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　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计算土方放坡深度时，不计算基础垫层的厚度。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20649" t="12917" r="34444" b="44142"/>
          <a:stretch/>
        </p:blipFill>
        <p:spPr>
          <a:xfrm>
            <a:off x="1835280" y="1700280"/>
            <a:ext cx="5545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1932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60280"/>
            <a:ext cx="914400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挖沟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墙沟槽，按外墙中心线长度计算；内墙沟槽，按图示基础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含垫层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底面之间净长度计算；外、内墙突出部分的沟槽体积，并入相应工程量内计算。不扣除外墙壁基础（含垫层）的工作面宽度，也不扣除爆破岩石时的允许超挖量宽度，外、内墙突出部分的槽沟体积，按突出部分的中心线长度并入相应外、内墙沟槽工程量内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本工程基础垫层上基槽开挖深度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4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，土类为混合土质，开挖深度大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，故基槽开挖需要放坡，放坡坡度按综合放坡系数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＝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5×1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×0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÷1.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计算沟槽土方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.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.4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断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46×1.8]×1.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0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32×62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9.5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33336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 : 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0×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净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5.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÷2]×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.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.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.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×0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]×h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＇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×0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×0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46×1.8]×1.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×0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0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7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70×51.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0.6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沟槽土方工程量合计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9.5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0.6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0.2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意：有时候按上面计算的量大于按大开挖计算的工程量时，需要调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907920"/>
            <a:ext cx="88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坚土工程量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46×0.4]×0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0.1}×62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46×0.4]×0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×0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0.1}×51.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.4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工挖沟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以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坚土  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2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0.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普通土工程量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0.2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.4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13.8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工挖沟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以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普通土  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2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1.2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620640"/>
            <a:ext cx="80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管道沟槽挖土工程量＝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·h·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管道沟槽宽（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管道沟槽深（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管道沟槽中心线长（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068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各种检查井和排水管道接口等处，因加宽而增加的工程量均不计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底面积大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井类除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但铸铁给水管道接口处的土方工程量，应按铸铁管道沟槽全部土方工程量增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9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机械土石方的运距，按挖土区重心至填方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或堆放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心间的最短距离计算。推土机、装载机、铲运机重车上坡时，其运距按坡道斜长乘下表系数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068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车上坡运距系数表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3716280"/>
          <a:ext cx="8351640" cy="1149480"/>
        </p:xfrm>
        <a:graphic>
          <a:graphicData uri="http://schemas.openxmlformats.org/drawingml/2006/table">
            <a:tbl>
              <a:tblPr/>
              <a:tblGrid>
                <a:gridCol w="1760040"/>
                <a:gridCol w="1624320"/>
                <a:gridCol w="1655640"/>
                <a:gridCol w="1800000"/>
                <a:gridCol w="1511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坡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系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、运土按下式，以立方米计算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运土体积＝挖土总体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回填土总体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式中的计算结果为正值时，为余土外运；为负值时取土内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98100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5.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竣工清理按下列规定以立方米计算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（一）筑物勒脚以上外墙外围水平面积乘以檐口高度。有山墙者以山尖二分之一高度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竣工清理工程量＝筑物勒脚以上外墙外围水平面积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室外地坪到檐口（山尖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/2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）的高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76360" y="620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第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节  工程量计算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70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场地平整，系指建筑物所在现场厚度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以内的就地挖、填及平整。局部挖填厚度超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，挖填工程量按相应规定计算，该部位仍计算平整场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40766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平整场地发生的工程内容为：土方挖填，场地找平，土方开挖，运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341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（二）地下室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包括半地下室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的建筑体积，按地下室上口外围水平面积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不包括地下室采光井及敷贴外部防潮层的保护砌体所占面积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乘以地下室地坪至建筑物第一层地坪间的高度。地下室出入口的建筑体积并入地下室建筑体积内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404640"/>
            <a:ext cx="878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场地平整按下列规定以平方米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筑物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构筑物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按首层结构外边线，每边各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ｍ计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场地平整工程量＝底层建筑面积＋外墙外边线长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无柱檐廊、挑阳台、独立柱雨篷等，按其水平投影面积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封闭或半封闭的曲折型平面，其场地平整的区域，不得重复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道路、停车场、绿化地、围墙、地下管线等不能形成封闭空间的构筑物，不得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图所示，按定额规定计算该建筑物的人工场地平整工程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11280" y="2349360"/>
          <a:ext cx="79200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79200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7628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人工场地平整工程量计算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24.24×11.04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×6-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3.3]+ [(24.24+11.04)×2+3.3×2]×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6=379.3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.24+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.04+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×6-0.24-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3.3=379.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套定额：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4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注意：按规范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4.24×11.04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×6-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3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26.2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4581360"/>
            <a:ext cx="86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本章土壤及岩石按普通土、坚土、松石、坚石分类，其具体分类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土壤及岩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类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76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单独土石方定额项目，适用于自然地坪与设计室外地坪之间，且挖方或填方工程量大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土石方工程。本章其他定额项目，适用于设计室外地坪以下的土石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础土石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程，以及自然地坪与设计室外地坪之间小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土石方工程。单独土石方定额项目不能满足需要时，可以借用其他土石方定额项目，但应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23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981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人工土方定额是按干土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天然含水率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编制的。干湿土的划分，以地质勘测资料的地下常水位为界，以上为干土，以下为湿土。采取降水措施后，地下常水位以下的挖土，套用挖干土相应定额，人工乘以系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26:48Z</dcterms:created>
  <dc:creator/>
  <dc:description/>
  <dc:language>en-US</dc:language>
  <cp:lastModifiedBy>user</cp:lastModifiedBy>
  <dcterms:modified xsi:type="dcterms:W3CDTF">2013-01-04T08:28:28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