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3.png" ContentType="image/png"/>
  <Override PartName="/ppt/media/image11.png" ContentType="image/png"/>
  <Override PartName="/ppt/media/image19.jpeg" ContentType="image/jpeg"/>
  <Override PartName="/ppt/media/image9.png" ContentType="image/png"/>
  <Override PartName="/ppt/media/image7.png" ContentType="image/png"/>
  <Override PartName="/ppt/media/image8.png" ContentType="image/png"/>
  <Override PartName="/ppt/media/image21.png" ContentType="image/png"/>
  <Override PartName="/ppt/media/image4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5.png" ContentType="image/png"/>
  <Override PartName="/ppt/media/image6.jpeg" ContentType="image/jpeg"/>
  <Override PartName="/ppt/media/image10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0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8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30E1-046B-44C6-B86C-E4E1FB5AA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D6C2-F0D1-41C7-95D3-646E66D8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8E59-C161-4B2C-A773-52BFE122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2219-D3D4-470B-9923-692F542C9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1A27-B191-421A-B18C-A8E550501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9266-B389-4A8C-9737-04A019462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5FE-B1B4-4578-AFCB-A0A88889D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002-861F-4488-BB6A-B379F78F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2472-11F3-4FC8-998D-4797E11E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06538-8BE0-4627-9A5D-6A35250D7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DA67-A443-4285-84FC-55C8D62E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DFA4-883A-4501-873E-318B11EC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C41A4-F161-4ED7-82B3-B6AD0C1D741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03280" y="40464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第一节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楼地面工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1773360"/>
            <a:ext cx="89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楼地面是指构成的基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楼板、夯实土基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、垫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承受地面荷载并均匀传递给基层的构造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、填充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在建筑楼地面上起隔音、保温、找坡或敷设暗管、暗线等作用的构造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、隔离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起防水、防潮作用的构造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、找平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在垫层、楼板上或填充层上起找平、找坡或加强作用的构造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、结合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面层与下层相结合的中间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、面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直接承受各种荷载作用的表面层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42920" y="1341360"/>
            <a:ext cx="69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注意点缀和分色小块料的区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rcRect l="7226" t="11403" r="19589" b="22314"/>
          <a:stretch/>
        </p:blipFill>
        <p:spPr>
          <a:xfrm>
            <a:off x="1042920" y="2349360"/>
            <a:ext cx="698364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79280" y="907920"/>
            <a:ext cx="8642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楼地面铺缸砖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勾缝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子目，定额按缝宽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ｍｍ编制；铺广场砖子目，定额按缝宽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ｍｍ编制。其他块料面层项目，定额均按密缝编制。设计缝宽与定额不同时，其块料和勾缝砂浆的用量可以调整，其他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179280" y="76500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案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-2]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某展览厅花岗石地面如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-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所示。墙厚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4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，门洞口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，地面找平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C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细石混凝土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厚，细石混凝土现场搅拌。地面中有钢筋混凝土柱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根，直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8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；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个花岗石图案为圆形，直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.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，图案外边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2.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；其余为规格块料点缀图案，规格块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6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，点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个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l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宽济南青花岗岩围边，均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:2.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水泥砂浆粘贴。编制石材楼地面工程工程量清单和清单报价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258920" y="1125360"/>
          <a:ext cx="6624720" cy="424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125360"/>
                    <a:ext cx="6624720" cy="424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635280" y="54450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-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162864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楼地面层铺地毯，定额按矩形房间编制。若遇异形房间，设计允许接缝时，人工乘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.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其他不变；设计不允许接缝时，人工乘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.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地毯损耗率，根据现场裁剪实际情况测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90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三、其他材料面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1125360"/>
            <a:ext cx="8785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踢脚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除缸砖、彩釉砖外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定额均按成品考虑编制，其中异形踢脚板指非矩形的形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预制水磨石踢脚板设计为异形时，执行大理石异形踢脚板子目，调整其中的大理石踢脚板，消耗量及其他均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实木踢脚板子目，定额按踢脚板直接铺钉在墙面上编制。若设计要求做基层板，另按定额“墙、柱饰面”中护基层板子目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踢脚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线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根据设计做法，以定额单位的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或ｍ计算工程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踢脚板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踢脚板净长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高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或                   踢脚线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踢脚线净长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四、踢脚线及楼地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79280" y="981000"/>
            <a:ext cx="8785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某房屋平面如图所示，室内水泥砂浆粘贴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高预制水磨石踢脚板，计算工程量，确定定额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35053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755640" y="2708280"/>
          <a:ext cx="7632720" cy="29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2708280"/>
                    <a:ext cx="7632720" cy="29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76720" y="3505320"/>
            <a:ext cx="2209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268280"/>
            <a:ext cx="864252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踢脚板工程量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[(8.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4)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4.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4)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80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12×6]×0.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5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水泥砂浆粘贴预制水磨石踢脚板  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1-7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定额基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7.6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9280" y="1125360"/>
            <a:ext cx="8785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楼梯面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包括踏步及最后一级踏步宽、休息平台、小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宽的楼梯井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按水平投影面积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通常情况下，当楼梯井宽度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楼梯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楼梯间净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休息平台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踏步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步数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楼层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当楼梯井宽度＞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时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楼梯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楼梯间净宽－楼梯井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+0.5)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休息平台宽＋踏步宽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步数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楼层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-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3110040" y="2438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547640" y="304920"/>
          <a:ext cx="6048720" cy="406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304920"/>
                    <a:ext cx="6048720" cy="406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179280" y="486900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≤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时，楼梯面层工程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L×A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为楼层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当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＞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0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ｍ时，楼梯面层工程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=[L×A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-0.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×b]×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79280" y="1125360"/>
            <a:ext cx="8785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本节中的水泥砂浆、水泥石子浆、混凝土等配合比，设计规定与定额不同时，可以换算，其他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整体面层中的楼地项目、楼梯项目，均不包括踢脚板、楼梯侧面、牵边；台阶不包括侧面、牵边；设计有要求时，按相应定额项目计算。细石混凝土、钢筋混凝土整体面层设计厚度与定额不同时，混凝土厚度可按比例换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水磨石楼地面子目，不包括水磨石面层的分格嵌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防滑条、地面分格嵌条按设计尺寸以延长米另行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   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一、整体面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6477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971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47628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某二层楼房，双跑楼梯平面如图所示，顶面铺花岗石板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未考虑防滑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水泥砂浆粘贴，计算工程量，确定定额项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3840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979640" y="2349360"/>
          <a:ext cx="4724280" cy="327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2349360"/>
                    <a:ext cx="4724280" cy="327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6477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71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038400" y="2443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1197000"/>
            <a:ext cx="889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花岗石板楼梯工程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0.3+3.0+1.5-0.12)×(3.6-0.24)=15.7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楼梯水泥砂浆粘贴花岗石板  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1-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255.9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260280"/>
            <a:ext cx="51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第二节  墙柱面工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5305320"/>
            <a:ext cx="9144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墙、柱面工程工程量清单共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个分项工程清单项目，即墙面抹灰、柱面抹灰、零星抹灰、墙面镶贴块料、柱面镶贴块料、零星镶贴块料，墙饰面、柱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梁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饰面、隔断、幕墙等工程。适用于一般抹灰、装饰抹灰工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105264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一般抹灰包括石灰砂浆、水泥混合砂浆、水泥砂浆、聚合物水泥砂浆、膨胀珍珠岩水泥砂浆和麻刀灰、纸筋石灰、石膏灰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装饰抹灰包括水刷石、水磨石、斩假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剁斧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干粘石、假面砖、拉条灰、拉毛灰、甩毛灰、扒拉石、喷毛灰、喷涂、喷砂、滚涂、弹涂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179280" y="404640"/>
            <a:ext cx="41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一、墙面抹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9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052640"/>
            <a:ext cx="878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墙、柱面工程所有子目，定额不分外墙、内墙，使用时按设计饰面做法和不同材质墙体，分别执行相应定额子目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墙、柱面工程中凡注明砂浆种类、配合比、饰面材料型号规格的，设计与定额不同时，可按设计规定调整，但人工数量不变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195640" y="2276640"/>
            <a:ext cx="5256000" cy="42494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0" y="33336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、墙面抹石灰砂浆分二遍、三遍、四遍，其标准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二遍：一遍底层，一遍面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三遍：一遍底层，一遍中层，一遍面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四遍：一遍底层，一遍中层，二遍面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0"/>
            <a:ext cx="952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620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抹灰等级与遍数、厚度、工序、外观质量的对应表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          表</a:t>
            </a:r>
            <a:r>
              <a:rPr b="0" lang="zh-CN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08000" y="1341360"/>
          <a:ext cx="8785080" cy="4572000"/>
        </p:xfrm>
        <a:graphic>
          <a:graphicData uri="http://schemas.openxmlformats.org/drawingml/2006/table">
            <a:tbl>
              <a:tblPr/>
              <a:tblGrid>
                <a:gridCol w="1762200"/>
                <a:gridCol w="1868400"/>
                <a:gridCol w="2390760"/>
                <a:gridCol w="2763720"/>
              </a:tblGrid>
              <a:tr h="58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名          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普 通  抹 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中   级    抹  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高  级  抹  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遍         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二         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三                 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四              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厚度不大于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ｍ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ｍ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ｍ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主要工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表面压光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层赶平、修整，表面压光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分层赶平、修整，表面压光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外观质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表面光滑、洁净，接槎平整。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表面光滑，洁净，接槎平整，灰缝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清晰顺直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表面光滑，洁净，颜色均匀，无抹纹灰线平直方正，清晰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549360"/>
            <a:ext cx="878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墙、柱面工程抹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含一般抹灰和装饰抹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子目，定额注明了抹灰厚度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厚度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者，砂浆种类为一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厚度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×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者，砂浆种类为两种，前者为打底厚度，后者为罩面厚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厚度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×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+×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者，砂浆种类为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种，前者为罩面厚度，中者为中层厚度，后者为打底厚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砂浆种类和抹灰厚度，设计与定额不同时，执行抹灰砂浆厚度调整子目。先调整抹灰厚度，再调整砂浆种类，其他不变。定额未注明抹灰厚度的，不作调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98100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窗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无论内、外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抹灰的砂浆种类和厚度，与墙面一致时不另计算，否则按其展开宽度，按相应零星项目或装饰线条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圆弧形墙面的抹灰，按相应项目人工乘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79280" y="333360"/>
            <a:ext cx="878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凸弧形装饰线条按下列规定执行补充定额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凸弧形装饰线条，系指突出墙面、断面外形为弧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由抹灰形成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直线形线条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凸弧形装饰线条，区分不同断面，按设计长度，以米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突出墙面的矩形混凝土或砖外表面，抹灰形成凸弧形装饰线条，该线条的断面面积应扣除混凝土或砖所占的矩形面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线条纵向成弧形，或纵向直线连续长度小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时，人工乘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83664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楼地面找平层和整体面层均按主墙间净面积以平方米计算。计算时应扣除凸出地面的构筑物、设备基础、室内铁道、室内地沟等所占面积，不扣除柱、垛、间壁墙、附墙烟囱及面积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以内的孔洞所占面积，但门洞、空圈、暖气包槽、壁龛的开口部分亦不增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楼地面找平层和整体面层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主墙间净长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主墙间净宽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-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构筑物等所占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9280" y="333360"/>
            <a:ext cx="87854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．墙面抹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含一般抹灰和装饰抹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的工程量，应扣除零星抹灰所占面积，不扣除各种装饰线条所占面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79280" y="620640"/>
            <a:ext cx="8785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内墙抹灰工程量按以下规则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墙抹灰以平方米计算。计算时应扣除门窗洞口和空圈所占的面积，不扣除踢脚板、挂镜线、单个面积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内的孔洞、墙与构件交接处的面积，洞侧壁和顶面亦不增加。墙垛和附墙烟囱侧壁面积与内墙抹灰工程量合并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79280" y="333360"/>
            <a:ext cx="878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墙面抹灰的长度，以主墙间的图示净长尺寸计算。其中，主墙一般是指在结构上起承重作用和功能性隔断的墙体（轻体隔断墙、间壁墙除外）。其高度确定如下：无墙裙的，其高度按室内地面或楼面至顶棚底面之间距离计算；有墙裙的，其高度按墙裙顶至顶棚底面之间距离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9280" y="692280"/>
            <a:ext cx="87854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有顶棚的，其高度至顶棚底面另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内墙抹灰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主墙间净长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墙面高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门窗等面积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垛的侧面抹灰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墙裙抹灰面积按内墙净长乘以高度计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扣除或不扣除内容同内墙抹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内墙裙抹灰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主墙间净长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墙裙高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门窗所占面积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垛的侧面抹灰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79280" y="1052640"/>
            <a:ext cx="8785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某工程如图所示，内墙面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: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水泥砂浆底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: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石灰砂浆找平层，麻刀石灰浆面层，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厚。内墙裙采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: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水泥砂浆打底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厚）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:2.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水泥砂浆面层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厚），计算内墙面抹灰工程量，确定定额项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10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27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   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:15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18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   共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7" name=""/>
          <p:cNvGraphicFramePr/>
          <p:nvPr/>
        </p:nvGraphicFramePr>
        <p:xfrm>
          <a:off x="684360" y="333360"/>
          <a:ext cx="8231040" cy="299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333360"/>
                    <a:ext cx="8231040" cy="299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324000" y="3560760"/>
            <a:ext cx="882000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①内墙面抹灰工程量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(4.50×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24×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12×2)×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5.4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24)×4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×(3.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90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00×(2.7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90)×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.50×1.80×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18.7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石灰砂浆砖墙面抹灰三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1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厚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套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-2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2.2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50920" y="457200"/>
            <a:ext cx="889308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抹灰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: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石灰砂浆每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厚  套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2-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67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3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内墙裙工程量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[(4.50×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4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12×2)×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5.4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4)×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00×4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0.9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8.8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砖墙裙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厚水泥砂浆  套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2-2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1.9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抹灰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: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水泥砂浆每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厚  套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2-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88×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4.4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79280" y="476280"/>
            <a:ext cx="8785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外墙一般抹灰工程量按以下规则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外墙抹灰面积，按设计外墙抹灰的垂直投影面积以平方米计算。计算时应扣除门窗洞口、外墙裙和单个面积大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孔洞所占面积，洞口侧壁面积不另增加。附墙垛、梁、柱侧面抹灰面积并入外墙面工程量内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外墙抹灰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外墙面长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墙面高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门窗等面积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垛的侧面抹灰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31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79280" y="47628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外墙裙抹灰面积按其长度乘高度计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扣除或不扣除内容同外墙抹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外墙裙抹灰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外墙面长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墙裙高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门窗所占面积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垛侧面抹灰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79280" y="69228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面勾缝按设计勾缝墙面的垂直投影面积计算。不扣除门窗洞口、门窗套、腰线等零星抹灰所占的面积，附墙柱和门窗洞口侧面的勾缝面积也不增加。独立柱、房上烟囱勾缝，按图示尺寸以平方米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墙面勾缝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墙面长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墙面高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83664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地面垫层按室内主墙间净面积乘以设计厚度，以立方米计算。计算时，应扣除凸出地面的构筑物、设备基础、室内铁道、地沟以及单个面积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以上的孔洞、独立柱等所占体积，不扣除间壁墙、附墙烟囱、墙垛以及单个面积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以内的孔洞等所占体积，门洞、空圈、暖气壁龛等开口部分也不增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地面垫层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（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S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房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-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单个面积在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0.3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ｍ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  <a:ea typeface="仿宋_GB2312"/>
              </a:rPr>
              <a:t>2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以上孔洞独立柱及构筑物等面积）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垫层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S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房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=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S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底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-Σ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L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中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外墙厚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-Σ</a:t>
            </a:r>
            <a:r>
              <a:rPr b="0" i="1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L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内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内墙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79280" y="69228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外墙各种装饰抹灰均按设计外墙抹灰的垂直投影面积计算。计算时，应扣除门窗洞口、空圈及单个面积大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孔洞所占面积，其侧壁面积不另增加。附墙垛侧面抹灰面积并入外墙抹灰工程量内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外墙装饰抹灰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外墙面长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抹灰高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门窗等面积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+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垛的侧面抹灰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6094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二、柱面抹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68360" y="1557360"/>
            <a:ext cx="8209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柱面抹灰项目适用于矩形柱、异形柱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包括圆形柱、半圆形柱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柱装饰抹灰按结构断面周长乘以设计柱抹灰高度，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柱装饰抹灰工程量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柱结构断面周长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设计柱抹灰高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5280" y="6094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三、零星抹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9280" y="1341360"/>
            <a:ext cx="878544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一般抹灰中的“零星项目”适用于各种壁柜、碗柜、过人洞、暖气壁龛、池槽、花台以及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内的抹灰；“装饰线条”抹灰适用于门窗套挑檐、腰线、压顶、遮阳板、楼梯边梁、宣传栏边框等展开宽度小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以内的竖、横线条抹灰。展开宽度超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时按“零星项目”执行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装饰抹灰的“零星项目”适用于挑檐、天沟、腰线、窗台线、门窗套、压顶、栏板、扶手、遮阳板、雨篷周边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79280" y="404640"/>
            <a:ext cx="878544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外墙一般抹灰中的其他抹灰，展开宽度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以内者，按延长米计算；展开宽度超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以上时，按图示尺寸的展开面积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其他抹灰工程量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展开宽度在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ｍｍ以内的实际长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或        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其他抹灰工程量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展开宽度在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300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ｍｍ以上的实际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外墙一般抹灰中的栏板、栏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包括立柱、扶手或压项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抹灰做法相同时，抹灰按垂直投影面积，以平方米计算；设计抹灰做法不同时，按其他抹灰规定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栏板、栏杆工程量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栏板、栏杆长度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栏板、栏杆抹灰高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4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404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、装饰抹灰中的挑檐、天沟、腰线、栏板、门窗套、窗台线、压顶等均按图示尺寸的展开面积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13509" t="4906" r="10294" b="7919"/>
          <a:stretch/>
        </p:blipFill>
        <p:spPr>
          <a:xfrm>
            <a:off x="1619280" y="1628640"/>
            <a:ext cx="532764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00"/>
                            </p:stCondLst>
                            <p:childTnLst>
                              <p:par>
                                <p:cTn id="39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179280" y="404640"/>
            <a:ext cx="878544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某工程如图所示，外墙面抹水泥砂浆，底层为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水泥砂浆打底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4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厚，面层为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水泥砂浆抹面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厚；外墙裙水刷石，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水泥砂浆打底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厚，素水泥浆二遍，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2.5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水泥白石子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厚（介格），挑檐水刷白石，厚度与配合比均与定额相同，计算外墙面抹灰和外墙裙及挑檐装饰抹灰工程量，确定定额项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10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ｍｍ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×25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ｍ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Ｃ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:12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×15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5" name=""/>
          <p:cNvGraphicFramePr/>
          <p:nvPr/>
        </p:nvGraphicFramePr>
        <p:xfrm>
          <a:off x="0" y="981000"/>
          <a:ext cx="9144000" cy="34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81000"/>
                    <a:ext cx="914400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79280" y="333360"/>
            <a:ext cx="8785440" cy="57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解：①外墙面水泥砂浆工程量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6.4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00)×2×(3.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0.10-0.90)-1.00×(2.50-0.90)-1.20×1.50×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3.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砖墙面抹水泥砂浆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厚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套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-2-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换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71.98+0.069×(194.4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80.28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72.9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外墙裙水刷白石子工程量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(6.4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00)×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.00]×0.9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7.9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砖墙面水刷白石子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.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ｍ厚  套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9-2-7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76.34+0.115×(506.48-551.27)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71.19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404640"/>
            <a:ext cx="9144000" cy="56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素水泥浆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[(6.4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00)×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.00]×0.90=17.9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每增一遍素水泥浆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无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套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-2-1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2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格嵌缝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[(6.4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00)×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.00]×0.90=17.9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分格嵌缝  套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-2-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6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⑤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挑檐水刷石工程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(6.4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4.00)×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60×8]×(0.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0.04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3.6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挑檐水刷白石子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ｍ厚  套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9-2-7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92.8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95280" y="609480"/>
            <a:ext cx="648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四、墙柱面镶贴块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9280" y="134136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墙面干挂大理石、花岗岩子目，定额按块料挂在膨胀螺栓上编制。若设计挂在龙骨上，龙骨单独计算，执行相应龙骨子目；扣除子目中膨胀螺栓的消耗量，其他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外墙贴面砖项目，灰缝宽按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以内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以内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以内列项，其人工、材料已综合考虑。如灰缝超过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以上者，其块料及灰缝材料用量允许调整，其他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圆弧形、锯齿形墙面镶贴块料，按相应项目人工乘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6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1752480"/>
            <a:ext cx="9677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35053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04640"/>
            <a:ext cx="8785440" cy="61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解：①找平层工程量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(9.9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)×(6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)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(9.9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)×(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)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45.7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2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细石混凝土找平层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6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厚   套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9-1-4  9-1-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定额基价＝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7.1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1.96×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144.98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②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白水泥色石子水磨石面层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ｍ厚）工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(9.9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)×(6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)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(9.9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)×(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45.71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白水泥色石子水磨石地面（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2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ｍ厚）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套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9-1-16  9-1-2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定额基价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25.19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6.35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61.5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</a:t>
            </a:r>
            <a:r>
              <a:rPr b="0" lang="zh-CN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4343400"/>
            <a:ext cx="9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79280" y="83664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墙面镶贴块料高度大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时，按墙面、墙裙项目套用；小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按踢脚线项目套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镶贴块料面层子目，除定额已注明留缝宽度的项目外，其余项目均按密缝编制。若设计留缝宽度与定额不同，其相应项目的块料和勾缝砂浆用量可以调整，其他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面贴块料面层按图示尺寸的实贴面积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面贴块料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图示长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装饰高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79280" y="33336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某变电室，外墙面尺寸如图所示，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5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×20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；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1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5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×15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；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2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：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2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×8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；门窗侧面宽度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00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，外墙水泥砂浆粘贴规格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94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×94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瓷质外墙砖，灰缝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ｍ，计算工程量，确定定额项目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50920" y="3284640"/>
          <a:ext cx="8893080" cy="31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284640"/>
                    <a:ext cx="8893080" cy="31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79280" y="907920"/>
            <a:ext cx="878544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外墙面砖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6.24+3.90)×2×4.20-(1.50×2.00)-(1.50×1.50)-(1.20×0.80)×4+[1.50+2.00×2+1.50×4+(1.20+0.80)×2×4]×0.10=78.8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外墙面水泥砂浆粘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规格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9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9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，灰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瓷质面砖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2-216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55.5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4648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981000"/>
            <a:ext cx="8785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镶贴块料面层子目，除定额已注明留缝宽度的项目外，其余项目均按密缝编制。若设计留缝宽度与定额不同，其相应项目的块料和勾缝砂浆用量可以调整，其他不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柱面贴块料面层按块料外围周长乘以装饰高度，以平方米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柱面贴块料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柱装饰块料外围周长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装饰高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1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4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835280" y="1890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第三节 顶棚工程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5950080"/>
            <a:ext cx="9144000" cy="520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天棚工程工程量清单共分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个分项工程清单项目：即天棚抹灰、天棚吊顶和天棚其他装饰。适用于天棚装饰工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7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3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9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2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250920" y="404640"/>
            <a:ext cx="86421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顶棚抹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顶棚抹灰面积，按主墙间的净面积计算；不扣除柱、垛、间壁墙、附墙烟囱、检查口和管道所占的面积。带梁顶棚，梁两侧抹灰面积，并入顶棚抹灰工程量内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顶棚抹灰工程量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主墙间的净长度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主墙间的净宽度＋梁侧面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密肋梁和井字梁顶棚抹灰面积，按展开面积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井字梁顶棚抹灰工程量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主墙间的净长度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主墙间的净宽度＋梁侧面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79280" y="76500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]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某工程现浇井字梁顶棚如图所示，麻刀石灰浆面层，计算工程量，确定定额项目。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327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6201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06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0" y="327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4360" y="1197000"/>
            <a:ext cx="828036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顶棚抹灰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6.60-0.24)×(4.40-0.24)+(0.40-0.12)×6.36×2+(0.25-0.12)×3.86×2×2-(0.25-0.12)×0.15×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31.9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现浇混凝土面顶棚麻刀石灰浆面层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3-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3.8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250920" y="404640"/>
            <a:ext cx="8893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顶棚抹灰带有装饰线时，装饰线按延长米计算。装饰线的道数以一个突出的棱角为一道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装饰线工程量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=Σ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（房间净长度＋房间净宽度）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×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檐口顶棚及阳台、雨篷底的抹灰面积，并入相应的顶棚抹灰工程量内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5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顶棚中的折线、灯槽线、圆弧形线、拱形线等艺术形式的抹灰，按展开面积计算，并入相应的顶棚抹灰工程量内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50920" y="404640"/>
            <a:ext cx="864216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二、天棚吊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吊顶顶棚中龙骨是按常用材料及规格编制的。设计规定与定额不同时，可以换算，其他不变。材料的损耗率分别为：木龙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轻钢龙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铝合金龙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%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顶棚木龙骨吊杆的规格与用量，设计与定额不同时，可以调整，其他不变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角钢的损耗率均为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%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1752480"/>
            <a:ext cx="9677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350532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476280"/>
            <a:ext cx="8785440" cy="58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ｍ铜条单间总长度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(9.9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)×[(6.0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)÷1.0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]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(6.0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)×[(9.9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)÷1.0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]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9.06×6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5.16×1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05.96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ｍ铜条走廊总长度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(9.90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)×[(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)÷1.0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]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(2.0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)×[(9.9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2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0.3)÷1.0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]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8.96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.16×2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61.1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15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ｍ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×2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ｍ铜条工程量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105.96×2+61.12=273.04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水磨石地面嵌铜分隔条  套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9-1-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    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  <a:ea typeface="仿宋_GB2312"/>
              </a:rPr>
              <a:t>定额基价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＝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7.65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元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/10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43434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rcRect l="30837" t="4108" r="12019" b="46115"/>
          <a:stretch/>
        </p:blipFill>
        <p:spPr>
          <a:xfrm>
            <a:off x="755640" y="0"/>
            <a:ext cx="784872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rcRect l="30837" t="53425" r="12019" b="3087"/>
          <a:stretch/>
        </p:blipFill>
        <p:spPr>
          <a:xfrm>
            <a:off x="900000" y="189000"/>
            <a:ext cx="784872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rcRect l="0" t="0" r="0" b="-7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4437000"/>
            <a:ext cx="9144000" cy="1818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、定额中顶棚等级划分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顶棚面层在同一标高者为“一级”顶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）顶棚面层不在同一标高，且龙骨有跌级高差者为“二级～三级”顶棚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2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79280" y="404640"/>
            <a:ext cx="878544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轻钢龙骨、铝合金龙骨定额按双层结构编制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即中、小龙骨紧贴大龙骨底面吊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如采用单层结构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大、中龙骨底面在同一水平面上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扣除定额内小龙骨及相应配件数量，人工乘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8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顶棚木龙骨子目，区分单层结构与双层结构。单层结构是指双向木龙骨形成的龙骨网片，直接由吊杆引上、与吊点固定的情况；双层结构是指双向木龙骨形成的龙骨网片，首先固定在单向设置的主木龙骨上，再由主木龙骨与吊杆连接、引上、与吊点固定的情况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9546" t="8084" r="0" b="24278"/>
          <a:stretch/>
        </p:blipFill>
        <p:spPr>
          <a:xfrm>
            <a:off x="1116000" y="981000"/>
            <a:ext cx="676908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79280" y="907920"/>
            <a:ext cx="8785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定额中顶棚龙骨、顶棚面层分别列项，使用时分别套用相应定额。对于二级及二级以上顶棚的面层，人工乘以系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-3-9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子目中“小面积”指面积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.0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以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顶棚装饰面开挖灯孔，按每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个灯孔用工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工日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5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50920" y="836640"/>
            <a:ext cx="8569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8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各种吊顶顶棚龙骨按主墙间净空面积以平方米计算；不扣除间壁墙、检查口、附墙烟囱、柱、灯孔、垛和管道所占面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级吊顶顶棚龙骨工程量＝主墙间的净长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墙间的净宽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79280" y="1445400"/>
            <a:ext cx="871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、“二至三级”顶棚龙骨的工程量，按龙骨跌级高差外边线所含最大矩形（以内或以外）面积以平方米计算，套用“二至三级”顶棚龙骨定额项目。若最大跌落线向外距墙边小于等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ｍ时，最大跌落线以外全部吊顶为“二至三级”顶棚龙骨；若最小跌落线其任意两对边之间的距离（或直径）小于等于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.8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ｍ时，最大跌落线以内全部吊顶为“二至三级”顶棚龙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79280" y="1962360"/>
            <a:ext cx="87854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吊顶局部向下跌落，以最大和最小跌落线每边各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0.6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ｍ为“二至三级”顶棚龙骨，其余为“一级”顶棚龙骨；若吊顶跌落的一侧为板底抹灰，该侧不得计算顶棚龙骨，另一侧为一个跌级时，按一级顶棚龙骨计算；面层按“二至三级”顶棚饰面计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一级吊顶顶棚龙骨工程量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主墙间的净长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主墙间的净宽度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-“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二至三级”顶棚龙骨工程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79280" y="765000"/>
            <a:ext cx="87854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、顶棚饰面工程量按以下规则计算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）顶棚装饰面积，按主墙间设计面积以平方米计算；不扣除间壁墙、检查口、附墙烟囱、附墙垛和管道所占面积，但应扣除独立柱、灯带、大于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0.3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的灯孔及与顶棚相连的窗帘盒所占的面积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顶棚饰面工程量＝主墙间的净长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墙间的净宽度－独立柱等所占面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4537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4537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260280"/>
            <a:ext cx="8964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垫层是指混凝土垫层、砂石人工级配垫层、天然级配砂石垫层、灰、土垫层、碎石、碎砖垫层、三合土垫层、炉渣垫层等材料垫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找平层是指水泥砂浆找平层，有比较特殊要求的可采用细石混凝土、沥青砂浆、沥青混凝土找平层等材料铺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隔离层是指卷材、防水砂浆、沥青砂浆或防水涂料等隔离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填充层是指轻质的松散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炉渣、膨胀蛭石、膨胀珍珠岩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或块体材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加气混凝土、泡沫混凝土、泡沫塑料、矿棉、膨胀珍珠岩、膨胀蛭石块和板材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以及整体材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沥青膨胀珍珠岩、沥青膨胀蛭石、水泥膨胀珍珠岩、膨胀蛭石等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填充层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50920" y="1484280"/>
            <a:ext cx="856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顶棚中的折线、跌落、拱形、高低灯槽及其他艺术形式顶棚面层均按展开面积计算。由于线角较多，故增加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0%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的用工量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艺术形式顶棚饰面工程量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展开长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展开宽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0" y="327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3657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4000" y="2781360"/>
            <a:ext cx="8424720" cy="28908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0" y="333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预制钢筋混凝土板底吊不上人型装配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型轻钢龙骨，间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4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，龙骨上铺钉中密度板，面层粘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厚铝塑板，尺寸如图所示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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计算顶棚工程量，确定定额项目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9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327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657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9280" y="692280"/>
            <a:ext cx="8713800" cy="442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①轻钢龙骨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12-0.24)×(6-0.24)=67.7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上人型装配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型轻钢龙骨（一级），间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×45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ｍ，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3-2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06.7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层板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12-0.24)×(6-0.24)-0.30×0.30=67.6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327672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657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907920"/>
            <a:ext cx="864072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轻钢龙骨上铺钉中密度基层板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3-8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1.3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铝塑板面层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12-0.24)×(6-0.24)-0.30×0.30=67.6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面层粘贴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厚铝塑板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3-1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290.9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79280" y="90792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]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某三级天棚尺寸如图所示，钢筋混凝土板下吊双层楞木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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面层为塑料板，计算顶棚工程量，确定定额项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71640" y="2708280"/>
            <a:ext cx="7416720" cy="32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7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380880" y="7696080"/>
            <a:ext cx="9144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189000"/>
            <a:ext cx="68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第四节    油漆、涂料及裱糊工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6021360"/>
            <a:ext cx="9144000" cy="459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油漆、涂料、裱糊工程工程量清单共分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个分项工程清单项目，门油漆，窗油漆，木扶手及其他板条线条油漆，木材面油漆，金属面油漆，抹灰面油漆，喷刷、涂料，花饰、线条刷涂料，裱糊等。适用于门窗油漆、金属和抹灰面油漆工程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358128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04640"/>
            <a:ext cx="28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一、门窗油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9280" y="1341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木踢脚线油漆按踢脚线的计算规则计算工程量，套用其他木材面油漆项目。木踢脚板油漆，若与木地板油漆相同，并入地板工程量内计算，其工程量计算方法和系数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其他木材面工程量系数表中的“零星木装饰”项目，指木材面油漆工程量系数表中未列的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358128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907920"/>
            <a:ext cx="878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木材面油漆的工程量分别按油漆、涂料系数表（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至表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-7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的规定，并乘以系数表内的系数，以平方米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油漆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代表项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各项相应系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基层处理的工程量按其面层的工程量套用基层处理相应子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基层处理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面层工程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．木材面油漆按设计图示尺寸以面积计算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0" dur="indefinite" restart="never" nodeType="tmRoot">
          <p:childTnLst>
            <p:seq>
              <p:cTn id="641" dur="indefinite" nodeType="mainSeq">
                <p:childTnLst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6" dur="8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7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8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50920" y="9079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木材面油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9280" y="1844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木踢脚线油漆按踢脚线的计算规则计算工程量，套用其他木材面油漆项目。木踢脚板油漆，若与木地板油漆相同，并入地板工程量内计算，其工程量计算方法和系数不变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其他木材面工程量系数表中的“零星木装饰”项目，指木材面油漆工程量系数表中未列的项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0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79280" y="907920"/>
            <a:ext cx="878544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木材面油漆的工程量分别按油漆、涂料系数表（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至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的规定，并乘以系数表内的系数，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油漆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代表项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各项相应系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基层处理的工程量按其面层的工程量套用基层处理相应子目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基层处理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面层工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木材面油漆按设计图示尺寸以面积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85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4537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45370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6206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．面层是指整体面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水泥砂浆、现浇水磨石、细石混凝土、菱苦土等面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、块料面层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石材、陶瓷地砖、橡胶、塑料、竹、木地板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等面层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358128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9280" y="549360"/>
            <a:ext cx="8785440" cy="344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三、喷刷涂料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喷塑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塑三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大压花、中压花、喷中点的规格划分如下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大压花：喷点压平、点面积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中压花：喷点压平、点面积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.2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喷中点、幼点：喷点面积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以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3581280"/>
            <a:ext cx="9144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76500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楼地面、顶棚面、墙、柱面的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刷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涂料、油漆工程，其工程量按装饰工程各自抹灰的工程量计算规则计算。涂料系数表（表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-1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中有规定的，按规定计算工程量并乘系数表中的系数。裱糊项目工程量，按设计裱糊面积以平方米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涂刷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抹灰面工程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裱糊工程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设计裱糊（实贴）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．木材面刷防火涂料，按所刷木材面的面积计算工程量；木方面刷防火涂料，按木方所附墙、板面的投影面积计算工程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木材面刷防火涂料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板方框外围投影面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79280" y="549360"/>
            <a:ext cx="878544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某工程如图所示尺寸，地面刷过氯乙烯涂料，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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三合板木墙裙上润油粉，刷硝基清漆六遍，墙面、顶棚刷乳胶漆三遍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光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，计算工程量，确定定额项目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1828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836136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3)" transition="in">
                                      <p:cBhvr additive="repl">
                                        <p:cTn id="702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0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9280" y="907920"/>
            <a:ext cx="8713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地面刷涂料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6.00-0.24)(3.60-0.24)=19.3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地面刷过氯乙烯涂料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4-18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36.5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79280" y="1125360"/>
            <a:ext cx="878544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裙刷硝基清漆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6.00-0.24+3.60-0.24]×2-1.00+0.12×2]×1.00×1.00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系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7.4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裙刷硝基清漆五遍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4-9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41.3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裙刷硝基清漆每增一遍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4-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1.98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79280" y="981000"/>
            <a:ext cx="89647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顶棚刷乳胶漆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.76×3.35=19.3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顶棚刷乳胶漆二遍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4-1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60.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顶棚刷乳胶漆每增一遍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4-15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3.5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79280" y="907920"/>
            <a:ext cx="8713800" cy="40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面刷乳胶漆工程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(5.76+3.36)×2×2.20-1.00×(2.70-1.00)-1.50×1.80=35.7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面刷乳胶漆二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光面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4-15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56.39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墙面刷乳胶漆每增一遍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4-15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28.7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r>
              <a:rPr b="0" lang="zh-CN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179280" y="1484280"/>
            <a:ext cx="878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某工程如图所示，内墙抹灰面满刮腻子二遍，贴对花墙纸；挂镜线刷底油一遍，调合漆二遍；挂镜线以上及顶棚刷仿瓷涂料二遍，计算工程量，确定定额项目。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395280" y="3284640"/>
            <a:ext cx="7991640" cy="288108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468360" y="26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四、裱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836640"/>
            <a:ext cx="87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墙纸裱糊按设计图示尺寸以面积计算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3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6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250920" y="1197000"/>
            <a:ext cx="8569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：①挂镜线工程量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(9.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4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0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0.24)×2×0.3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系数）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16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挂镜线刷底油一遍，调合漆二遍  套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-4-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定额基价＝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5.8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元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/10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76500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大理石、花岗石楼地面面层点缀子目，其点缀块料按规格块料、被点缀的主体块料按现场加工编制。点缀块料面层的工程量，按设计图示尺寸点缀的面积单独计算；不扣除被点缀的主体块料面层的工程量，其现场加工的人工、机械也不增加（加工用工已在点缀项目内考虑）。楼地面点缀是一种简单的楼地面块料拼铺方式，即在块料四角相交处各切去一个角，另镶一小块深颜色块料，起到点缀作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4T08:30:23Z</dcterms:created>
  <dc:creator/>
  <dc:description/>
  <dc:language>en-US</dc:language>
  <cp:lastModifiedBy>user</cp:lastModifiedBy>
  <dcterms:modified xsi:type="dcterms:W3CDTF">2013-01-04T08:30:49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