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3.png" ContentType="image/png"/>
  <Override PartName="/ppt/media/image4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8127-E3E4-41B1-8687-DA19BBEE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50EA-349E-4492-AA64-D6CC39FC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B7C4-6163-4503-B81C-94EE8571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CEDC-B54D-4061-9F4E-C76A6DA5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2915-74BF-4B7C-846A-5030B65F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BB3D-9605-4BC8-A57B-573B6E53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13A7-87EB-43F9-AB1C-575A0A93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13C4-9288-4A6C-81E4-A8F73460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5EE6-6860-4426-ACBB-125827D2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E978-228E-4EFB-A539-2657DF78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9D87-F281-49F4-BCB8-F17CA064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27AF-26FF-4C02-9673-D576918A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8F54-D2BA-4A47-BDFA-4537C506E4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47628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章   建筑工程计价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16558" t="45811" r="12705" b="23753"/>
          <a:stretch/>
        </p:blipFill>
        <p:spPr>
          <a:xfrm>
            <a:off x="468360" y="1268280"/>
            <a:ext cx="8207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69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按先横后竖、先左后右、先上后下的顺序计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54200" t="5039" r="8873" b="66571"/>
          <a:stretch/>
        </p:blipFill>
        <p:spPr>
          <a:xfrm>
            <a:off x="900000" y="1628640"/>
            <a:ext cx="66596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2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76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按图上注明的编号、分类依次进行计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0" t="67380" r="55389" b="0"/>
          <a:stretch/>
        </p:blipFill>
        <p:spPr>
          <a:xfrm>
            <a:off x="755640" y="1557360"/>
            <a:ext cx="734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836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按图纸上标注的轴线进行计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50001" t="67380" r="0" b="0"/>
          <a:stretch/>
        </p:blipFill>
        <p:spPr>
          <a:xfrm>
            <a:off x="755640" y="1773360"/>
            <a:ext cx="766764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　　七、工程量计算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分段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676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分层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362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分块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97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补加补减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581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平衡计算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1148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统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统筹法的要点是：统筹程序、合理安排；利用基数、连续计算；一次算出、多次应用；结合实际、灵活机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791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计算机计算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1371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170240" y="228600"/>
            <a:ext cx="49737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666880" y="37296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第三节   基数计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5238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一、一般线面基数计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22096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中——建筑平面图中设计外墙中心线的总长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28954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内——建筑平面图中设计内墙净长线长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5812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外——建筑平面图中外墙外边线的总长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25916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净——建筑基础平面图中内墙砼基础或垫层净长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50212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底建——建筑物底层建筑面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57150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房心——建筑平面图中房心净面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809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00×2+3.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×2=18.6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267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.24+3.5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×2=19.5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18.60+0.24×4=19.5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800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3.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.24=3.0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3341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6.24×3.54=22.0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867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房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00×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.24×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.2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16.8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0" y="0"/>
          <a:ext cx="960120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6012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773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经过批准和会审的全部施工图设计文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782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经过批准的项目管理实施规划或施工组织设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7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经过批准的工程设计概算文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789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单位估价表或价目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294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人工工资单价、材料价格、施工机械台班单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797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建筑工程费用定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76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第一节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建筑工程计价依据和步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87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建筑工程消耗量定额或计价规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11253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、建筑工程计价的依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302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造价工作手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8071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工程承发包合同文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628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熟悉施工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0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熟悉项目管理实施规划和施工现场情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852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合理划分工程项目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50028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正确计算工程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14972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进行消耗量计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79736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计算各项费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33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二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建筑工程计价的步骤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052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收集计价的基础文件和资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796000" y="3429000"/>
            <a:ext cx="3048120" cy="2666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0920" y="5445000"/>
            <a:ext cx="40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编制说明、填写封面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60930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复核、装订、审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197000"/>
            <a:ext cx="435600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　　一、工程量的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04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二节  工程量计算技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989000"/>
            <a:ext cx="9144000" cy="94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工程量是以规定的计量单位表示的工程数量。它是编制建设工程招投标文件和编制建筑安装工程预算、施工组织设计、施工作业计划、材料供应计划、建筑统计和经济核算的依据，也是编制基本建设计划和基本建设财务管理的重要依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编制单位工程预算过程中，计算工程量是既费力又费时间的工作，其计算快慢和准确程度，直接影响预算速度和质量。因此，必须认真、准确、迅速地进行工程量计算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00000" y="692280"/>
            <a:ext cx="42832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二、工程量计算的依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1628640"/>
            <a:ext cx="8280360" cy="2653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施工图设计文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项目管理实施规划（或施工组织设计）文件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建筑工程量计算规则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建设工程工程量清单计价规范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建筑工程消耗量定额（或企业定额）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工程造价工作手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　　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三、工程量计算的要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923760"/>
            <a:ext cx="896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工程量计算应采取表格形式，列出定额编号，项目名称，单位和计算公式。最好用铅笔计算，方便修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工程量计算应按设计图纸规定的尺寸、数量，以及构件、设备明细表等，计算出来具体工程和结构配件的数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要严格按照定额和规范规定和工程量计算规则，结合施工图所注位置与尺寸为依据进行计算，应将图纸上标明的毫米数，换算成米数。各个数据应按宽、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长、数量、系数的次序填写，尺寸一般要取图纸所注的尺寸（可读尺寸），计算式一定要注明轴线或部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数字计算要精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要按一定的顺序计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要结合图纸，尽量做到结构按分层计算，内装饰按分层分房间计算，外装饰分立面计算或按施工方案的要求分段计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计算底稿要整齐，数字清楚，数值准确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四、工程量计算的步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105264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计算出基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编制统计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编制预制构件加工委托计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用统筹法或计算机计算主要项目工程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计算其他项目工程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工程量整理、汇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五、单位工程工程量计算顺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197000"/>
            <a:ext cx="691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按图纸顺序计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按预算定额的分部分项顺序计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按施工顺序计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按统筹图计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按预算软件程序计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549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　　六、分项工程量计算顺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341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从图的左上角开始，顺时针方向计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4289" t="4290" r="50001" b="67771"/>
          <a:stretch/>
        </p:blipFill>
        <p:spPr>
          <a:xfrm>
            <a:off x="971640" y="2133720"/>
            <a:ext cx="72007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19T08:58:12Z</dcterms:modified>
  <cp:revision>122</cp:revision>
  <dc:subject/>
  <dc:title>PowerPoint Presentation</dc:title>
</cp:coreProperties>
</file>