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124A-03FD-41F7-8120-74FB6D78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6528-CB97-410F-AB9D-7EB2820F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DE8F-8BD4-4309-B2A3-9EB88B78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6544-A012-41BF-8E6C-505FF762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1BD4-19DD-443F-8B5F-F3153A26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5C8B-C605-4853-9DF9-CA77DC4E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346-1554-436A-88D0-3344AB88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ACB3-B582-4A28-AA1A-3C7FCDC7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176-79A8-46DA-8EF0-D9A1B9DE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A2E1-402A-4C11-99B6-802416FC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BCF-7C6D-4DBD-BAD4-105895DB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8344-7135-45F0-923E-39DF4D3F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3678-0B33-4884-AD48-EA04BDD192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404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009"/>
                </a:solidFill>
                <a:latin typeface="Times New Roman"/>
              </a:rPr>
              <a:t>第一节  屋面及防水工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569080" cy="53294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5280" y="4762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屋面木基层是指屋架上弦以上至屋面瓦以下的结构部分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22812" t="40890" r="21751" b="12082"/>
          <a:stretch/>
        </p:blipFill>
        <p:spPr>
          <a:xfrm>
            <a:off x="1187280" y="1773360"/>
            <a:ext cx="64803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609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981000"/>
            <a:ext cx="82072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屋面板制作、檩木上钉屋面板、油毡挂瓦条、钉椽板项目按屋面的斜面积计算。天窗挑檐重叠部分按设计规定计算，屋面烟囱及斜沟部分所占面积不扣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屋面斜面积＝屋面水平投影面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延尺系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屋面板厚度，定额中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ｍ计算，如设计板厚不同则板材量可以调整，其他不变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木板材的损耗率平口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％，错口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609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54936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檩木按竣工木料以立方米计算。檩垫木或钉在屋架上的檩托木已包括在定额内，不另计算。简支檩长度按设计规定计算，如设计未规定者，按屋架或山墙中距增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计算，如两端出山，檩条长度算至博风板；连续檩长度按设计长度计算，其接头长度按全部连续檩的总长度增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计算，即按全部连续檩的总体积增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计算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95280" y="3933720"/>
          <a:ext cx="8424720" cy="20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33720"/>
                    <a:ext cx="84247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609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37471" r="0" b="43463"/>
          <a:stretch/>
        </p:blipFill>
        <p:spPr>
          <a:xfrm>
            <a:off x="539640" y="3429000"/>
            <a:ext cx="8317080" cy="2016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162864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一般屋面基层以上有找坡层、隔气层、保温层、找平层、防水层、隔热层等构造。在本章定额中，分别按各结构层的不同做法列了项目，使用时按设计做法分别套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69228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009"/>
                </a:solidFill>
                <a:latin typeface="Times New Roman"/>
              </a:rPr>
              <a:t>第二节  屋面防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609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620640"/>
            <a:ext cx="87854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)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定额防水项目不分室内、室外及防水部位，使用时按设计做法套用相应定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1844640"/>
            <a:ext cx="878544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刚性防水中，分格嵌缝的工料已包括在定额内，不另套用。卷材防水中，卷材下找平层的嵌缝内容不包括在定额内，发生时按定额有关项目套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屋面分格缝，按设计图示尺寸，以米计算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09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21253"/>
          <a:stretch/>
        </p:blipFill>
        <p:spPr>
          <a:xfrm>
            <a:off x="468360" y="1773360"/>
            <a:ext cx="7848720" cy="424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26028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6)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卷材防水的接缝、收头、附加层及找平层的嵌缝、冷底子油等人工、材料，己计入定额中，不另行计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549360"/>
            <a:ext cx="7920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92009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7)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屋面防水，按设计图示尺寸的水平投影面积乘以坡度系数，以平方米计算，不扣除房上烟囱、风帽底座、风道和屋面小气窗等所占面积，屋面的女儿墙、伸缩缝和天窗等处的弯起部分，按设计图示尺寸并入屋面工程量内计算；设计无规定时，伸缩缝、女儿墙的弯起部分按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250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ｍｍ计算，天窗弯起部分按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500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ｍｍ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屋面防水工程量＝设计总长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总宽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坡度系数＋弯起部分面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002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9640" y="422100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92009"/>
                </a:solidFill>
                <a:latin typeface="Times New Roman"/>
              </a:rPr>
              <a:t>本章定额中屋面防水，坡屋面工程量按斜铺面积加弯起部分；平屋面工程量按水平投影面积加弯起部分，坡度小于</a:t>
            </a:r>
            <a:r>
              <a:rPr b="0" lang="zh-CN" sz="2400" spc="-1" strike="noStrike">
                <a:solidFill>
                  <a:srgbClr val="f9200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92009"/>
                </a:solidFill>
                <a:latin typeface="Times New Roman"/>
              </a:rPr>
              <a:t>/30</a:t>
            </a:r>
            <a:r>
              <a:rPr b="0" lang="zh-CN" sz="2400" spc="-1" strike="noStrike">
                <a:solidFill>
                  <a:srgbClr val="f92009"/>
                </a:solidFill>
                <a:latin typeface="Times New Roman"/>
              </a:rPr>
              <a:t>的屋面均按平屋面计算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屋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括上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楼地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括上卷高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ｍ以下面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均套用平面防水项目。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79640" y="692280"/>
            <a:ext cx="496872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692280"/>
            <a:ext cx="7920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：某建筑物轴线尺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0×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，墙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四周女儿墙，无挑檐。屋面做法：水泥珍珠岩保温层，最薄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屋面坡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1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％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水泥砂浆找平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厚，刷冷底子油一道，二毡三油防水层，弯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计算防水层工程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于屋面坡度小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因此按平屋面防水计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平面防水面积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50-0.24)×(16-0.24)=784.217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卷面积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(50-0.24)+(16-0.24)]×2×0.25=32.7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于冷底子油已包括在定额内容中，不另计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因此防水工程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784.2176+32.76=816.977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11280" y="692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009"/>
                </a:solidFill>
                <a:latin typeface="Times New Roman"/>
              </a:rPr>
              <a:t>第三节  墙及地面防水与防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141300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、计价规范与计价办法相关规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227664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建设工程工程量清单计价规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附录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-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墙、地面防水、防潮项目包括卷材防水、涂膜防水、砂浆防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变形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333360"/>
            <a:ext cx="86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屋面及防水工程量清单共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分项工程清单项目，即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瓦、型材屋面，屋面防水，墙、地面防水、防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适用于建物屋面和墙、地面防水工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0" r="0" b="62535"/>
          <a:stretch/>
        </p:blipFill>
        <p:spPr>
          <a:xfrm>
            <a:off x="611280" y="2276640"/>
            <a:ext cx="8172360" cy="30240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9280" y="1197000"/>
            <a:ext cx="878544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2009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防水项目不分室内、室外及防水部位，使用时按设计做法套用相应定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卷材防水中的卷材接缝、收头、防水薄弱处的附加层及找平层的嵌缝、冷底子油基层等人工、材料，已计入定额中，不另行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细石混凝土防水层，使用钢筋网时，按有关章节规定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692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009"/>
                </a:solidFill>
                <a:latin typeface="Times New Roman"/>
              </a:rPr>
              <a:t>第三节  墙及地面防水与防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09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62064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变形缝包括建筑物的伸缩缝、沉降缝及抗震缝，适用于屋面、墙面、地基等部位。缝口断面尺寸已列于定额说明中，若设计断面尺寸与定额取定不同时，主材用量可以调整，人工及付材不变。调整量可按下式计算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整用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计缝口断面积／定额缝口断面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额用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2924280"/>
            <a:ext cx="7958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墙面防水及楼地面防水中上卷高度超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ｍ的防水，要套用立面防水项目（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ｍ以内部分）；其他部位的防水，如屋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括上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楼地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括上卷高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ｍ以下面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均套用平面防水项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765000"/>
            <a:ext cx="828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200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6. 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地面防水、防潮层按主墙间净面积，以平方米计算。扣除凸出地面的构筑物、设备基础等所占面积，不扣除柱、垛、间壁墙、烟囱以及单个面积在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f92009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以内的孔洞所占面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地面防水、防潮层工程量＝主墙间净长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墙间净宽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增减面积</a:t>
            </a:r>
            <a:r>
              <a:rPr b="0" lang="zh-CN" sz="3200" spc="-1" strike="noStrike">
                <a:solidFill>
                  <a:srgbClr val="f92009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620640"/>
            <a:ext cx="820908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f9200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7.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墙基防水、防潮层，外墙按外墙中心线长度、内墙按墙体净长度乘以宽度，以平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墙基防水、防潮层工程量＝外墙中心线长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实铺宽度＋内墙净长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实铺宽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墙基侧面及墙立面防水、防潮层，不论内墙、外墙，均按设计防水长度乘以高度，以平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9280" y="549360"/>
            <a:ext cx="87138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、涂膜防水的油膏嵌缝、屋面分格缝，按设计图示尺寸，以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9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、变形缝与止水带，按设计图示尺寸，以米计算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6370" t="945" r="19702" b="24251"/>
          <a:stretch/>
        </p:blipFill>
        <p:spPr>
          <a:xfrm>
            <a:off x="1692360" y="2852640"/>
            <a:ext cx="51847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00000" y="69228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009"/>
                </a:solidFill>
                <a:latin typeface="Times New Roman"/>
              </a:rPr>
              <a:t>第四节   防腐、隔热保温工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1628640"/>
            <a:ext cx="8713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防腐、隔热、保温工程的工程量清单共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分项工程清单项目，即防腐面层、其他防腐、隔热、保温工程。适用于工业与民用建筑的基础、地面、墙面防腐，楼地面、墙体、屋盖的保温隔热工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09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620640"/>
            <a:ext cx="813744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本节定额适用于中温、低温及其恒温的工业厂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库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房保温工程，以及一般保温工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保温层种类和保温材料配合比，设计与定额不同时可以换算，其他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混凝土板上保温和架空隔热，适用于楼板、屋面板、地面的保温和架空隔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立面保温，适用于墙面和柱面的保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609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981000"/>
            <a:ext cx="8785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30000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本节定额不包括保护层或衬墙等内容，发生时按相应章节套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隔热层铺贴，除松散保温材料外，其他均以石油沥青作胶结材料。松散材料的包装材料及包装用工已包括在定额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、墙面保温铺贴块体材料，包括基层涂沥青一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9280" y="333360"/>
            <a:ext cx="878544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200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、本章定额中，保温层按保温部位的不同列的项目，使用时，按保温位置及设计做法套用相应定额即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9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、楼板上、屋面板上、地面的保温，可套用砼板上保温项目；墙面、柱面保温，可套用立面保温项目；柱帽保温要并入顶棚保温工程量内，套用顶棚保温项目；梁保温，套用顶棚保温中砼板下保温项目；池、槽保温，池壁套用主面保温，池底按地面套用砼板上保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、顶棚保温中砼板下沥青铺贴项目，包括木龙骨的制作安装内容，木龙骨不再另套项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9280" y="907920"/>
            <a:ext cx="878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f92009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11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、保温层按设计图示尺寸以立方米计算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另有规定的除外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保温层的厚度按保温材料的净厚度计算，胶结材料不包括在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聚氨酯发泡项目，根据不同的发泡厚度，按设计图示的保温尺寸，以平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混凝土板上架空隔热，不论架空高度如何，均按设计架空隔热面积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0988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54936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009"/>
                </a:solidFill>
                <a:latin typeface="Times New Roman"/>
              </a:rPr>
              <a:t>一、配套定额相关规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268280"/>
            <a:ext cx="8785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粘土瓦、水泥瓦屋面板或椽子挂瓦条上铺设项目，工作内容只包括铺瓦、安脊瓦，瓦以下的木基层要套用“木结构”有关项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西班牙瓦、英红瓦，定额中工作内容包括调制砂浆、铺瓦、绑扎铁丝固定及清扫瓦面。脊瓦铺设均单列项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3357720"/>
            <a:ext cx="8497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设计屋面材料规格与定额规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额未注明具体规格的除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同时，可以换算，其他不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整用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计实铺面积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页有效瓦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页有效瓦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]×(1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损耗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页有效瓦长、单页有效瓦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瓦的规格－规范规定的搭接尺寸水泥瓦或黏土瓦若穿铁丝钉元钉，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增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日，镀锌低碳钢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2#0.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9280" y="228600"/>
            <a:ext cx="8785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30000">
                <a:solidFill>
                  <a:srgbClr val="f92009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12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、屋面保温层按设计图示面积乘以平均厚度，以立方米计算。不扣除房上烟囱、风帽底座、风道和屋面小气窗等所占体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屋面保温层平均厚度＝保温层宽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÷2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坡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÷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最薄处厚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屋面保温层工程量＝保温层设计长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计宽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平均厚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平均厚度指保温层兼做找坡层时，其保温层的厚度按平均厚度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0988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47640" y="2852640"/>
          <a:ext cx="640908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852640"/>
                    <a:ext cx="640908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228600"/>
            <a:ext cx="878544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92009"/>
                </a:solidFill>
                <a:latin typeface="Times New Roman"/>
              </a:rPr>
              <a:t>[</a:t>
            </a:r>
            <a:r>
              <a:rPr b="0" lang="zh-CN" sz="3200" spc="-1" strike="noStrike">
                <a:solidFill>
                  <a:srgbClr val="f92009"/>
                </a:solidFill>
                <a:latin typeface="Times New Roman"/>
              </a:rPr>
              <a:t>案例</a:t>
            </a:r>
            <a:r>
              <a:rPr b="0" lang="zh-CN" sz="3200" spc="-1" strike="noStrike">
                <a:solidFill>
                  <a:srgbClr val="f92009"/>
                </a:solidFill>
                <a:latin typeface="Times New Roman"/>
              </a:rPr>
              <a:t>]</a:t>
            </a:r>
            <a:r>
              <a:rPr b="0" lang="zh-CN" sz="3200" spc="-1" strike="noStrike">
                <a:solidFill>
                  <a:srgbClr val="f92009"/>
                </a:solidFill>
                <a:latin typeface="Times New Roman"/>
              </a:rPr>
              <a:t>保温平</a:t>
            </a:r>
            <a:r>
              <a:rPr b="0" lang="zh-CN" sz="3200" spc="-1" strike="noStrike">
                <a:solidFill>
                  <a:srgbClr val="f93709"/>
                </a:solidFill>
                <a:latin typeface="Times New Roman"/>
              </a:rPr>
              <a:t>屋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尺寸如</a:t>
            </a:r>
            <a:r>
              <a:rPr b="0" lang="zh-CN" sz="3200" spc="-1" strike="noStrike">
                <a:solidFill>
                  <a:srgbClr val="f92009"/>
                </a:solidFill>
                <a:latin typeface="Times New Roman"/>
              </a:rPr>
              <a:t>图所示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作法如下：空心板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水泥砂浆找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厚，沥清隔气层一度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现浇水泥珍珠岩最薄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厚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水泥砂浆找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厚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V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橡胶卷材防水，计算工程量，确定定额项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92009"/>
                </a:solidFill>
                <a:latin typeface="Times New Roman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2997360"/>
          <a:ext cx="777708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997360"/>
                    <a:ext cx="777708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79280" y="476280"/>
            <a:ext cx="871380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①高分子卷材防水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8.7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0.24+0.65×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(15.7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0.24+0.65×2)=870.1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V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橡胶卷材防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平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套定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-2-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524.1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屋面保温层平均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6÷2×0.015÷2+0.06=0.1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保温层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8.7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0.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(15.7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0.24)×0.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84.00×0.1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4.0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现浇水泥珍珠岩  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-3-15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495.56+10.40×(129.95-127.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521.5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765000"/>
            <a:ext cx="86644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沥清隔气层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8.7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0.2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×(15.7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0.24)=784.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石油沥青一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含冷底子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平面   套定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-2-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2.8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砂浆找平层按相应定额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280" y="26028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保温平屋面，尺寸如图所示，作法如下：空心板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水泥砂浆找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厚，刷冷底油二遍，沥清隔气层一遍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厚水泥蛭石块保温层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: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现浇水泥蛭石找坡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水泥砂浆找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厚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B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改性沥青卷材满铺一层，点式支撑预制混凝土板架空隔热层，计算工程量，确定定额项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71640" y="3068640"/>
          <a:ext cx="720072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068640"/>
                    <a:ext cx="720072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9280" y="549360"/>
            <a:ext cx="8785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隔气层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7.00-0.2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(12.00-0.24)+(10.00-0.24)×(20.00-12.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92.7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石油沥青一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含第一遍冷底子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平面   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-2-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价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2.8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结合层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7.00-0.2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(12.00-0.24)+(10.00-0.24)×(20.00-12.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92.7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465300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二遍冷底子油   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-2-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价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1.3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907920"/>
            <a:ext cx="89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保温层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92.78×0.08=31.4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水泥蛭石块   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-3-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价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383.4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找坡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7.00-0.24+17.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÷2×(12.00-0.24)]×[(12-0.24)÷2×0.015÷2]+[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.00-0.24+8.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÷2×(10.00-0.24)]×[(10-0.24)÷2×0.015÷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57.31×0.0441+135.47×0.0366=16.3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现浇水泥蛭石保温层  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-3-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价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52.8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1280" y="620640"/>
            <a:ext cx="820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防水层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.00-0.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(12.00-0.24)+(10.00-0.24)×(20.00-12.00)+(27.00-0.24+20.00-0.24)×2×0.25=392.78+23.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416.0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B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改性沥青卷材满铺一层  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-2-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价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415.2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隔热层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.00-0.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(12.00-0.24)+(10.00-0.24)×(20.00-12.00)=392.7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点式支撑预制混凝土板架空隔热层   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-3-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价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14.0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620640"/>
            <a:ext cx="80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13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、地面保温层按主墙间净面积乘以设计厚度，以立方米计算。扣除凸出地面的构筑物、设备基础等所占体积，不扣除柱、垛、间壁墙、烟囱等所占体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地面保温层工程量＝（主墙间净长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墙间净宽度－应扣面积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计厚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3500280"/>
            <a:ext cx="820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14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、顶棚保温层按主墙间净面积乘以设计厚度，以立方米计算。不扣除保温层内各种龙骨等所占体积，柱帽保温按设计图示尺寸并入相应顶棚保温工程量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顶棚保温层工程量＝主墙间净长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墙间净宽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计厚度＋柱帽保温层体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1280" y="981000"/>
            <a:ext cx="813744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200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15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、墙体保温层，外墙按保温层中心线长度、内墙按保温层净长度乘以设计高度及厚度，以立方米计算。扣除冷藏门洞口和管道穿墙洞口所占体积，门洞口侧壁周围的保温，按设计图示尺寸并入相应墙面保温工程量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墙体保温层工程量＝（外墙保温层中心线长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计高度－洞口面积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厚度＋（内墙保温层净长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计高度－洞口面积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厚度＋洞口侧壁体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09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333360"/>
            <a:ext cx="8785440" cy="192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彩钢压型板屋面檩条，定额按间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编制，设计与定额不同时，檩条数量可以换算，其他不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整用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计每平方米檩条用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×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×(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十损耗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损耗率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％计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石棉瓦屋面、镀锌铁皮屋面，工作内容包括檩条上铺瓦、安脊瓦，但檩条的制作、安装不包括在定额内，制作及安装另套用相应项目。彩钢压型板屋面，檩条已包括在定额内，不另计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屋面找平层，执行装饰工程楼地面找平相应子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9280" y="549360"/>
            <a:ext cx="878544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f92009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9200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92009"/>
                </a:solidFill>
                <a:latin typeface="Times New Roman"/>
              </a:rPr>
              <a:t>16</a:t>
            </a:r>
            <a:r>
              <a:rPr b="0" lang="zh-CN" sz="3200" spc="-1" strike="noStrike">
                <a:solidFill>
                  <a:srgbClr val="f92009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柱保温层按保温层中心线展开长度乘以设计高度及厚度，以立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柱保温层工程量＝保温层中心线展开长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计高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厚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17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、池槽保温层按设计图示长、宽净尺寸乘以设计厚度，以立方米计算。池壁按立面计算，池底按地面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池槽壁保温层工程量＝设计图示净长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净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计厚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池底保温层工程量＝设计图示净长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净宽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计厚度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907920"/>
          <a:ext cx="807732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07732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49360"/>
            <a:ext cx="914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等两坡屋面工程量＝（房满外宽度＋外檐宽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外檐总长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延尺系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等四坡屋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两斜梯形水平投影面积＋两斜三角形水平投影面积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延尺系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或：等四坡屋面＝屋面水平投影面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延尺系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等两坡正斜脊工程量＝外檐总长度＋两外檐之间总宽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延尺系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山墙端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等四坡正斜脊工程量＝外檐总长度－外檐总宽度＋外檐总宽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隅延尺系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1952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340000" y="404640"/>
          <a:ext cx="4648320" cy="22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404640"/>
                    <a:ext cx="464832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1640" y="2924280"/>
            <a:ext cx="7488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注：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92009"/>
                </a:solidFill>
                <a:latin typeface="Times New Roman"/>
              </a:rPr>
              <a:t>＇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且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时，为等两坡屋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＇＝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时，等四坡屋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屋面斜铺面积＝屋面水平投影面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等两坡屋面山墙泛水斜长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×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等四坡屋面斜脊长度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×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en-US" sz="2800" spc="-1" strike="noStrike">
                <a:solidFill>
                  <a:srgbClr val="f92009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228600"/>
            <a:ext cx="8713800" cy="56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例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]</a:t>
            </a:r>
            <a:r>
              <a:rPr b="0" lang="zh-CN" sz="2800" spc="-1" strike="noStrike">
                <a:solidFill>
                  <a:srgbClr val="f92009"/>
                </a:solidFill>
                <a:latin typeface="Times New Roman"/>
              </a:rPr>
              <a:t>某工程如图所示，屋面板上铺水泥大瓦，计算工程量，确定定额项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92009"/>
                </a:solidFill>
                <a:latin typeface="Times New Roman"/>
              </a:rPr>
              <a:t>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92009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瓦屋面工程量＝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.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12×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(3.6×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24)×1.11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6.0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屋面板上铺水泥瓦  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-1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2.8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826920" y="1125360"/>
          <a:ext cx="7620120" cy="29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25360"/>
                    <a:ext cx="762012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280" y="40464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30000">
                <a:solidFill>
                  <a:srgbClr val="f9200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92009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f92009"/>
                </a:solidFill>
                <a:latin typeface="Times New Roman"/>
              </a:rPr>
              <a:t>、琉璃瓦屋面的琉璃瓦脊、檐口线，按设计图示尺寸，以米计算。设计要求安装勾头</a:t>
            </a:r>
            <a:r>
              <a:rPr b="0" lang="zh-CN" sz="2400" spc="-1" strike="noStrike">
                <a:solidFill>
                  <a:srgbClr val="f92009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92009"/>
                </a:solidFill>
                <a:latin typeface="Times New Roman"/>
              </a:rPr>
              <a:t>卷尾</a:t>
            </a:r>
            <a:r>
              <a:rPr b="0" lang="zh-CN" sz="2400" spc="-1" strike="noStrike">
                <a:solidFill>
                  <a:srgbClr val="f92009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f92009"/>
                </a:solidFill>
                <a:latin typeface="Times New Roman"/>
              </a:rPr>
              <a:t>或博古</a:t>
            </a:r>
            <a:r>
              <a:rPr b="0" lang="zh-CN" sz="2400" spc="-1" strike="noStrike">
                <a:solidFill>
                  <a:srgbClr val="f92009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92009"/>
                </a:solidFill>
                <a:latin typeface="Times New Roman"/>
              </a:rPr>
              <a:t>宝顶</a:t>
            </a:r>
            <a:r>
              <a:rPr b="0" lang="zh-CN" sz="2400" spc="-1" strike="noStrike">
                <a:solidFill>
                  <a:srgbClr val="f92009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f92009"/>
                </a:solidFill>
                <a:latin typeface="Times New Roman"/>
              </a:rPr>
              <a:t>等时，另按个计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002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4852" t="16142" r="18717" b="17415"/>
          <a:stretch/>
        </p:blipFill>
        <p:spPr>
          <a:xfrm>
            <a:off x="900000" y="1628640"/>
            <a:ext cx="6624720" cy="4462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80360" y="1628640"/>
            <a:ext cx="792000" cy="360360"/>
          </a:xfrm>
          <a:prstGeom prst="wedgeRoundRectCallout">
            <a:avLst>
              <a:gd name="adj1" fmla="val -154810"/>
              <a:gd name="adj2" fmla="val 105064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51640" y="1628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宝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28000" y="3213000"/>
            <a:ext cx="792000" cy="360360"/>
          </a:xfrm>
          <a:prstGeom prst="wedgeRoundRectCallout">
            <a:avLst>
              <a:gd name="adj1" fmla="val -169240"/>
              <a:gd name="adj2" fmla="val 6718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99280" y="3213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垂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56720" y="5373720"/>
            <a:ext cx="936360" cy="360360"/>
          </a:xfrm>
          <a:prstGeom prst="wedgeRoundRectCallout">
            <a:avLst>
              <a:gd name="adj1" fmla="val -140337"/>
              <a:gd name="adj2" fmla="val 5749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95672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钩头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877000"/>
            <a:ext cx="792000" cy="360360"/>
          </a:xfrm>
          <a:prstGeom prst="wedgeRoundRectCallout">
            <a:avLst>
              <a:gd name="adj1" fmla="val 149800"/>
              <a:gd name="adj2" fmla="val -72027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877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滴水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9T14:27:28Z</dcterms:modified>
  <cp:revision>77</cp:revision>
  <dc:subject/>
  <dc:title>PowerPoint Presentation</dc:title>
</cp:coreProperties>
</file>