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C274-0315-4CEF-843F-E68CD782F5B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人工、材料和机械台班消耗指标，是预算定额的重要内容。预算定额水平的高低主要取决于这些指标的合理确定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预算定额是一种综合性定额，是以复合过程为标定对象，在施工定额的基础上综合扩大而成。在确定各项指标前，应根据编制方案所确定的定额项目和已选定的典型图纸，按定额子目和已确定的计算单位，按工程量计算规则分别计算工程量，在此基础上再计算人工、材料和机械台班的消耗指标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预算定额中人工消耗指标中包括了各种用工量。有基本用工、辅助用工、超运距用工和人工幅度差四项，其中后三项综合称为其他用工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人工、材料和机械台班消耗指标，是预算定额的重要内容。预算定额水平的高低主要取决于这些指标的合理确定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预算定额是一种综合性定额，是以复合过程为标定对象，在施工定额的基础上综合扩大而成。在确定各项指标前，应根据编制方案所确定的定额项目和已选定的典型图纸，按定额子目和已确定的计算单位，按工程量计算规则分别计算工程量，在此基础上再计算人工、材料和机械台班的消耗指标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预算定额中人工消耗指标中包括了各种用工量。有基本用工、辅助用工、超运距用工和人工幅度差四项，其中后三项综合称为其他用工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人工、材料和机械台班消耗指标，是预算定额的重要内容。预算定额水平的高低主要取决于这些指标的合理确定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预算定额是一种综合性定额，是以复合过程为标定对象，在施工定额的基础上综合扩大而成。在确定各项指标前，应根据编制方案所确定的定额项目和已选定的典型图纸，按定额子目和已确定的计算单位，按工程量计算规则分别计算工程量，在此基础上再计算人工、材料和机械台班的消耗指标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预算定额中人工消耗指标中包括了各种用工量。有基本用工、辅助用工、超运距用工和人工幅度差四项，其中后三项综合称为其他用工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人工、材料和机械台班消耗指标，是预算定额的重要内容。预算定额水平的高低主要取决于这些指标的合理确定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预算定额是一种综合性定额，是以复合过程为标定对象，在施工定额的基础上综合扩大而成。在确定各项指标前，应根据编制方案所确定的定额项目和已选定的典型图纸，按定额子目和已确定的计算单位，按工程量计算规则分别计算工程量，在此基础上再计算人工、材料和机械台班的消耗指标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预算定额中人工消耗指标中包括了各种用工量。有基本用工、辅助用工、超运距用工和人工幅度差四项，其中后三项综合称为其他用工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人工、材料和机械台班消耗指标，是预算定额的重要内容。预算定额水平的高低主要取决于这些指标的合理确定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预算定额是一种综合性定额，是以复合过程为标定对象，在施工定额的基础上综合扩大而成。在确定各项指标前，应根据编制方案所确定的定额项目和已选定的典型图纸，按定额子目和已确定的计算单位，按工程量计算规则分别计算工程量，在此基础上再计算人工、材料和机械台班的消耗指标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预算定额中人工消耗指标中包括了各种用工量。有基本用工、辅助用工、超运距用工和人工幅度差四项，其中后三项综合称为其他用工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人工、材料和机械台班消耗指标，是预算定额的重要内容。预算定额水平的高低主要取决于这些指标的合理确定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预算定额是一种综合性定额，是以复合过程为标定对象，在施工定额的基础上综合扩大而成。在确定各项指标前，应根据编制方案所确定的定额项目和已选定的典型图纸，按定额子目和已确定的计算单位，按工程量计算规则分别计算工程量，在此基础上再计算人工、材料和机械台班的消耗指标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预算定额中人工消耗指标中包括了各种用工量。有基本用工、辅助用工、超运距用工和人工幅度差四项，其中后三项综合称为其他用工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6E66-4F87-4312-925D-CB2B0241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AB26-C33C-406F-BAF5-425DB79D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1743-B29C-4377-AF58-3B073449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CA04-D470-4200-A478-6E008568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1890-A055-42AB-A6A5-631A7825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B316-2566-4FB5-AA6E-9441B3C0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2116-7CFA-457E-937E-F9A13DE0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75E9-1C26-4F7D-BF97-391AD113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9E43-4F2F-44E7-83C4-A84D2BF7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DFEC-A283-4441-93D7-8B124C11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7BAA-D2B9-48B2-8093-21842FEF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7FAA-00DA-403C-A2C2-593846C7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099E-F2C8-4B06-9AD7-7BD40399A8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71640" y="404640"/>
            <a:ext cx="685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      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第七章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砌筑工程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15148" r="0" b="4755"/>
          <a:stretch/>
        </p:blipFill>
        <p:spPr>
          <a:xfrm>
            <a:off x="179280" y="1268280"/>
            <a:ext cx="87854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916280"/>
            <a:ext cx="91440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9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0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6563" t="23692" r="15123" b="31304"/>
          <a:stretch/>
        </p:blipFill>
        <p:spPr>
          <a:xfrm>
            <a:off x="539640" y="2565360"/>
            <a:ext cx="8134560" cy="2662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79280" y="40464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平屋面算至钢筋混凝土板底，如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所示。山墙高度按其平均高度计算，如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所示。女儿墙高度自外墙顶面算至混凝土压顶底，如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9280" y="380880"/>
            <a:ext cx="878544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内墙高度，位于屋架下弦者，其高度算至屋架底；无屋架者算至顶棚底另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，如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所示；有钢筋混凝土楼板隔层者，算至楼板顶，如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2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67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403280" y="2852640"/>
          <a:ext cx="6553440" cy="25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852640"/>
                    <a:ext cx="6553440" cy="25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9280" y="380880"/>
            <a:ext cx="8785440" cy="60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围墙：高度算至压顶上表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有混凝土压顶时，算至压顶下表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围墙柱并入围墙体积内。如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-1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围墙工程量：</a:t>
            </a:r>
            <a:r>
              <a:rPr b="0" i="1" lang="en-US" sz="32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0" i="1" lang="en-US" sz="3200" spc="-1" strike="noStrike">
                <a:solidFill>
                  <a:srgbClr val="ff3300"/>
                </a:solidFill>
                <a:latin typeface="Times New Roman"/>
              </a:rPr>
              <a:t>L·B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+4</a:t>
            </a:r>
            <a:r>
              <a:rPr b="0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·</a:t>
            </a:r>
            <a:r>
              <a:rPr b="0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0" i="1" lang="en-US" sz="3200" spc="-1" strike="noStrike">
                <a:solidFill>
                  <a:srgbClr val="ff33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67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332000" y="2997360"/>
          <a:ext cx="633708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997360"/>
                    <a:ext cx="633708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609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32000" y="76500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第二节  砌筑工程工程量计算规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700280"/>
            <a:ext cx="820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实心轻质砖包括蒸压灰砂砖、蒸压粉煤灰砖、煤渣砖、煤矸石砖、页岩烧结砖、黄河淤泥烧结砖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砖砌体均包括原浆勾缝用工，加浆勾缝时，按装饰工程相应项目另行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90792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女儿墙按外墙计算，砖垛、附墙烟囱、三皮砖以上的腰线和挑檐等体积，按其外形尺寸并入墙身体积计算。不扣除每个横截面积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以下的孔洞所占体积，但孔洞内的抹灰工程量亦不增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零星项目系指小便池槽、蹲台、花台、隔热板下砖墩、石墙砖立边和虎头砖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砖以上砖挡土墙执行砖基础项目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砖以内执行砖墙相应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549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设计砖砌体中的拉结钢筋，按相应章节另行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484360" y="1628640"/>
            <a:ext cx="46800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4360" y="98100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定额中砖规格是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4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5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标准砖编制的，空心砖、多孔砖、砌块规格按常用规格编制的，轻质墙板选用常用材质和板型编制的。设计采用非标准砖、非常用规格砌筑材料，与定额不同时可以换算，但每定额单位消耗量不变。轻质墙板的材质、板型设计等，与定额不同时可以换算，但定额消耗量不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46541" t="18731" r="10624" b="12529"/>
          <a:stretch/>
        </p:blipFill>
        <p:spPr>
          <a:xfrm>
            <a:off x="4284720" y="333360"/>
            <a:ext cx="4680000" cy="2808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8325" t="54036" r="56933" b="7093"/>
          <a:stretch/>
        </p:blipFill>
        <p:spPr>
          <a:xfrm>
            <a:off x="826920" y="3284640"/>
            <a:ext cx="3816360" cy="3357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rcRect l="38596" t="13560" r="9330" b="-5881"/>
          <a:stretch/>
        </p:blipFill>
        <p:spPr>
          <a:xfrm>
            <a:off x="4859280" y="2971800"/>
            <a:ext cx="3888000" cy="3886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rcRect l="8073" t="4216" r="50006" b="29333"/>
          <a:stretch/>
        </p:blipFill>
        <p:spPr>
          <a:xfrm>
            <a:off x="324000" y="260280"/>
            <a:ext cx="3816360" cy="2376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547640" y="278136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烧结普通砖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5009" t="7258" r="54413" b="40962"/>
          <a:stretch/>
        </p:blipFill>
        <p:spPr>
          <a:xfrm>
            <a:off x="1403280" y="1773360"/>
            <a:ext cx="6264360" cy="4681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9640" y="8366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用单元体法计算每立方米砖墙砖和砂浆用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5640" y="2997360"/>
            <a:ext cx="7921800" cy="20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砂浆净用量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[1-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砖单块体积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块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砖净用量（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+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损耗率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实砌砖墙损耗率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；多孔砖墙损耗率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；实砌砖墙砂浆损耗率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%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；多孔砖墙砂浆损耗率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83664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砖的净用量（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墙厚砖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÷[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墙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砖长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灰缝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墙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灰厚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] 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+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损耗率）或砖的净用量（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27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墙厚砖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墙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+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损耗率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4360" y="83664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第一节   砌筑工程定额说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184464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砌筑砂浆的强度等级、砂浆的种类，设计与定额不同时可换算，消耗量不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314172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定额中砖规格是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4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5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标准砖编制的。设计采用非标准砖可以换算，但每定额单位消耗量不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2177280"/>
            <a:ext cx="864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．各种轻质砖综合了以下种类的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实心轻质砖包括蒸压灰砂砖、蒸压粉煤灰砖、煤渣砖、煤矸石砖、页岩烧结砖、黄河淤泥烧结砖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多孔砖包括粉煤灰多孔砖、烧结黄河淤泥多孔砖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空心砖包括蒸压灰砂空心砖、粉煤灰空心砖、页岩空心砖、混凝土空心砖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304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620640"/>
            <a:ext cx="87854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多孔砖包括黏土多孔砖和粉煤灰、煤矸石等轻质多孔砖。定额中列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P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型砖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24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11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9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7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9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和模数砖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19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9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9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9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14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9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9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9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9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两种系列规格，并考虑了不够模数部分由其他材料填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黏土空心砖按其空隙率大小分承重型空心砖和非承重型空心砖，规格分别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4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11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4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8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1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24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4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24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11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304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1341360"/>
            <a:ext cx="80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空心砖和空心砌块墙中的混凝土芯柱、混凝土压顶及圈粱等，按相应章节另行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多孔砖、空心砖和砌块，砌筑弧形墙时，人工乘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材料乘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0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系数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447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304920"/>
            <a:ext cx="8785440" cy="54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外墙、内墙、框架间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轻质墙板、漏空花格及隔断板除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按其高度乘以长度乘以设计厚度，以立方米计算。框架外表贴砖部分并入框架间砌体工程量内计算。如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1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692360" y="2276640"/>
          <a:ext cx="575928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276640"/>
                    <a:ext cx="575928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04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692280"/>
            <a:ext cx="77058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墙体工程量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=[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0" i="1" lang="zh-CN" sz="2800" spc="-1" strike="noStrike">
                <a:solidFill>
                  <a:srgbClr val="ff3300"/>
                </a:solidFill>
                <a:latin typeface="Times New Roman"/>
              </a:rPr>
              <a:t>Ｌ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0" i="1" lang="zh-CN" sz="2800" spc="-1" strike="noStrike">
                <a:solidFill>
                  <a:srgbClr val="ff3300"/>
                </a:solidFill>
                <a:latin typeface="Times New Roman"/>
              </a:rPr>
              <a:t>Ｈ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门窗洞口面积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]×</a:t>
            </a:r>
            <a:r>
              <a:rPr b="0" i="1" lang="zh-CN" sz="2800" spc="-1" strike="noStrike">
                <a:solidFill>
                  <a:srgbClr val="ff3300"/>
                </a:solidFill>
                <a:latin typeface="Times New Roman"/>
              </a:rPr>
              <a:t>ｈ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-Σ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构件体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式中：</a:t>
            </a:r>
            <a:r>
              <a:rPr b="0" i="1" lang="zh-CN" sz="2800" spc="-1" strike="noStrike">
                <a:solidFill>
                  <a:srgbClr val="ff3300"/>
                </a:solidFill>
                <a:latin typeface="Times New Roman"/>
              </a:rPr>
              <a:t>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外墙为中心线长度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中），内墙为内墙净长度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内）；框架间墙为柱间净长度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净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墙垛厚，是指墙外皮至垛外皮的厚度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墙厚，砖墙厚度严格按黏土砖砌体计算厚度表（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计算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3300"/>
                </a:solidFill>
                <a:latin typeface="Times New Roman"/>
              </a:rPr>
              <a:t>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墙高，砖墙高度按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规则计算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77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1" dur="770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3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304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79280" y="260280"/>
          <a:ext cx="8785440" cy="5911920"/>
        </p:xfrm>
        <a:graphic>
          <a:graphicData uri="http://schemas.openxmlformats.org/drawingml/2006/table">
            <a:tbl>
              <a:tblPr/>
              <a:tblGrid>
                <a:gridCol w="466920"/>
                <a:gridCol w="671400"/>
                <a:gridCol w="2495520"/>
                <a:gridCol w="2617920"/>
                <a:gridCol w="2533680"/>
              </a:tblGrid>
              <a:tr h="75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屋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类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檐口构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规范墙身计算高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定额墙身计算高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无檐口天棚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屋面板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屋面板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有屋架，室内外均有天棚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屋架下弦底面另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ｍ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屋架下弦底另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ｍ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有屋架，无天棚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屋架下弦底面另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ｍ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屋架下弦底另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ｍ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无天棚，檐宽超过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0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ｍ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按实砌高度计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按实砌高度计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有挑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钢筋混凝土板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钢筋混凝土板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有女儿墙，无檐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屋面板顶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屋面板顶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无混凝土压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女儿墙顶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女儿墙顶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有混凝土压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女儿墙压顶底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女儿墙压顶底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位于屋架下弦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屋架下弦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屋架下弦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无屋架，有天棚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天棚底另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ｍ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天棚底另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ｍ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有钢筋混凝土楼板隔层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楼板顶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楼板底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有框架梁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梁底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算至梁底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内、外山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按平均高度计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按平均高度计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304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98100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计算墙体时，应扣除门窗洞口、过人洞、空圈、嵌入墙身的钢筋混凝土柱、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包括过梁、圈梁、挑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砖平碹、砖过梁、暖气包壁龛及内墙板头的体积；不扣除梁头、外墙板头、檩头、垫木、木楞头、沿椽木、木砖、门窗走头、墙内的加固钢筋、木筋、铁件、钢管及每个面积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.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以内的孔洞等所占体积；突出墙面的窗台虎头砖、压顶线、山墙泛水、烟囱根、门窗套及三皮砖以内的腰线和挑檐等体积亦不增加。墙垛、三皮砖以上的腰线和挑檐等体积，并入墙身体积内计算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304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9420" t="8718" r="9938" b="7939"/>
          <a:stretch/>
        </p:blipFill>
        <p:spPr>
          <a:xfrm>
            <a:off x="1042920" y="189000"/>
            <a:ext cx="69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79280" y="189000"/>
            <a:ext cx="878544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附墙烟囱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包括附墙通风道、垃圾道，混凝土烟风道除外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按其外形体积并入所依附的墙体积内计算，如图所示。计算时不扣除每一孔洞横截面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以内所占的体积，但孔洞内抹灰工程量亦不增加。混凝土烟、风道按设计混凝土砌块体积，以立方米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附墙烟筒工程量＝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Ｈ——附墙烟筒设计高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268360" y="2565360"/>
          <a:ext cx="48006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565360"/>
                    <a:ext cx="48006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50920" y="189000"/>
            <a:ext cx="87138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砖平碹、平砌砖过梁按图示尺寸以立方米计算。如设计无规定时，砖平旋按门窗洞口宽度两端共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乘以高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洞口宽小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5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时，高度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4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；大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5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时，高度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6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乘以设计厚度计算。普通粘土砖平（碹）与普通粘土砖砌为一体时，其工程量并入相应砖砌体内，不单独计算，如下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砖平碹计算公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＝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ｍ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×0.24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≤ 1.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ｍ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＝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ｍ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×0.365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1.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ｍ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5272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10330"/>
          <a:stretch/>
        </p:blipFill>
        <p:spPr>
          <a:xfrm>
            <a:off x="1692360" y="2997360"/>
            <a:ext cx="57625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9280" y="22320"/>
            <a:ext cx="878544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基础与墙身以设计室内地坪为界，设计室内地坪以下为基础，以上为墙身。若基础与墙身使用不同材料，且分界线位于设计室内地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以内时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以内部分并入相应墙身工程量内计算。有地下室者，以地下室室内地坪为界，以下为基础，以上为墙身。如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                 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1                                         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．围墙以设计室外地坪为界，室外地坪以下为基础以上为墙身。如图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2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所示。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33526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900000" y="2924280"/>
          <a:ext cx="748836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924280"/>
                    <a:ext cx="748836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79280" y="189000"/>
            <a:ext cx="87138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平砌砖过梁按门窗洞口宽度两端共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，高度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4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计算。平砌砖过梁（钢筋除外）与普通粘土砖砌为一体时，其工程量并入相应砖砌体内，不单独计算，如下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平砌砖过梁计算公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＝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0.44×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   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墙体厚度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5272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10330"/>
          <a:stretch/>
        </p:blipFill>
        <p:spPr>
          <a:xfrm>
            <a:off x="1763640" y="2060640"/>
            <a:ext cx="5257800" cy="2232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187280" y="1989000"/>
            <a:ext cx="6985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3808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47628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漏空花格墙按设计空花部分外形面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空花部分不予扣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以平方米计算。混凝土漏空花格按半成品考虑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2376360"/>
            <a:ext cx="8569080" cy="26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其他砌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砖台阶按设计图示尺寸以立方米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砖砌栏板按设计图示尺寸扣除混凝土压顶、柱所占的面积，以平方米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预制水磨石隔断板、窗台板，按设计图示尺寸以平方米计算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380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404640"/>
            <a:ext cx="87854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砖砌地沟不分沟底、沟壁按设计图示尺寸以立方米计算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石砌护坡按设计图示尺寸以立方米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乱毛石表面处理，按所处理的乱石表面积或延长米，以平方米或延长米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变压式排气道按其断面尺寸套用相应项目，以延长米计算工程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楼层交接处的混凝土垫块及垫块安装灌缝已综合在子目中，不单独计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380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40464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厕所蹲台、小便池槽、水槽腿、花台、砖墩、毛石墙的门窗砖立边和窗台虎头砖、锅台等定额未列的零星项目，按设计图示尺寸以立方米计算，套用零星砌体项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32466" t="8576" r="6836" b="15483"/>
          <a:stretch/>
        </p:blipFill>
        <p:spPr>
          <a:xfrm>
            <a:off x="1835280" y="2565360"/>
            <a:ext cx="51847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410080" y="33526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1197000"/>
            <a:ext cx="77058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-4]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某传达室，砖墙体用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混合砂浆砌筑，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24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9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24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5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15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门窗上部均设过梁，断面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4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18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长度按门窗洞口宽度每边增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外墙均设圈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内墙不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断面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4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24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计算墙体工程量，确定定额项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410080" y="33526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24000" y="1197000"/>
          <a:ext cx="83516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83516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410080" y="33526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306360"/>
            <a:ext cx="8839080" cy="38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：①外墙工程量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[(6.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3.60+6.00+3.60+8.00)×(0.90+1.50+0.18+0.38)-1.50×1.50×6-1.00×2.40-0.90×2.4]×0.24-0.24×0.18×2.00×6-0.24×0.18×1.50-0.24×0.18×1.4=[80.51-13.5-2.4-2.16]×0.24-0.52-0.06-0.04=14.3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内墙工程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[(6.0-0.24+8.0-0.24)×(0.9+1.5+0.18+0.38+0.11)-0.9×2.4]×0.24-0.24×0.18×1.40=[41.51-2.16]×0.24-0.06=9.4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410080" y="33526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16000" y="620640"/>
            <a:ext cx="741528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半圆弧外墙工程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4.00×3.14×(0.90+1.50+0.18+0.38)×0.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8.9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墙体工程量合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4.37+9.46+8.92=32.7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4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混水砖墙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混合砂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-1-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定额基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455.7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半圆弧墙工程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8.9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弧形砖墙另加工料  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-1-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定额基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50.2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9280" y="260280"/>
            <a:ext cx="878544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室内柱以设计室内地坪为界，以下为柱基础，以上为柱。若基础与柱身使用不同材料，且分界线位于设计室内地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以内时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以内部分并入相应柱身工程量内计算。室外柱以设计室外地坪为界，以下为柱基础，以上为柱。如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63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187280" y="2708280"/>
          <a:ext cx="6624720" cy="31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708280"/>
                    <a:ext cx="662472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0920" y="765000"/>
            <a:ext cx="856908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挡土墙与基础的划分以挡土墙设计地坪标高低的一侧为界，以下为基础，以上为墙身。如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5                                        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979640" y="2060640"/>
          <a:ext cx="50292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060640"/>
                    <a:ext cx="50292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600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600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952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76500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30000">
                <a:solidFill>
                  <a:srgbClr val="ff33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条形基础外墙条形基础按设计外墙中心线长度、柱间条形基础按柱间墙体的设计净长度、内墙条形基础按设计内墙净长度乘以设计断面，以立方米计算，基础大放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形接头处的重叠部分，以及嵌入基础的钢筋、铁件、管道、基础防潮层、单个面积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以内的孔洞所占体积不予扣除，但靠墙暖气沟的挑檐亦不增加，附墙垛基础宽出部分体积并入基础工程量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条形基础工程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基础断面积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嵌入基础的构件体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    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式中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—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外墙为中心线长度（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中）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    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内墙为内墙净长度（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内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600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600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952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4382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765000"/>
            <a:ext cx="806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30000">
                <a:solidFill>
                  <a:srgbClr val="ff33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条形基础工程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基础断面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嵌入基础的构件体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式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外墙为中心线长度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中）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内墙为内墙净长度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内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304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549360"/>
            <a:ext cx="8785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墙体高度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外墙高度，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屋面无檐口顶棚者算至屋面板底，如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所示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33920" y="61722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484360" y="2492280"/>
          <a:ext cx="3238560" cy="33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492280"/>
                    <a:ext cx="323856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410080" y="33526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24360" y="40053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95640" y="6400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52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050920" y="1916280"/>
          <a:ext cx="5040360" cy="194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916280"/>
                    <a:ext cx="5040360" cy="19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0" y="253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340000" y="4724280"/>
          <a:ext cx="4681440" cy="165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724280"/>
                    <a:ext cx="468144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179280" y="18900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有屋架，且室内外均有顶棚者，其高度算至屋架下弦底另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，如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所示；无顶棚者算至屋架下弦底另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，如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所示；出檐宽度超过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时，按实砌高度计算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19T13:56:21Z</dcterms:modified>
  <cp:revision>83</cp:revision>
  <dc:subject/>
  <dc:title>PowerPoint Presentation</dc:title>
</cp:coreProperties>
</file>