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type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2894D-437B-4E18-B02D-12723C9B0CBA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二、工程造价的计价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、单件性     工程的单件性决定每项工程都必须单独计算造价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、多次性     根据下图可以看出建设工程要按程序分段进行，相应地也要在不同阶段多次计价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、组合性    工程造价是由小到大江总组合而成，即分部分项工程 单价——单位工程造价——单项工程单价——建设项目总造价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、多样性   多次计价都有不同的依据，对工程造价的精度要求不同，计算方法多样性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、复杂性    由于影响造价的因素多、计价的依据复杂，种类繁多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三、工程造价的特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、大额性   几百万、上千万。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、个别性、差别性    一个工程一个样，造价都不同。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、动态性    工程造价在整个建设期间处于不确定状态，直到竣工时才能最终确定出实际造价。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、层次性   工程造价多层组合，层次性非常明显，怀小到大。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、兼容性   计划、投资、设计、施工都涉及造价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四、工程造价的职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、预测职能   无论投资者还是建筑商都要对似建工程进行预先预测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、控制职能   根据对造价的多层次的预估，进行全过程多层次的控制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、评价性    是评价总投资和分项投资的合理性和效益的依据，是评价建安企业管理水平和经营成果的依据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、调控性   对工程建设的物质消耗、建设规模、投资方向进行调控管理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040"/>
            <a:ext cx="50292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二、工程造价的计价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、单件性     工程的单件性决定每项工程都必须单独计算造价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、多次性     根据下图可以看出建设工程要按程序分段进行，相应地也要在不同阶段多次计价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、组合性    工程造价是由小到大江总组合而成，即分部分项工程 单价——单位工程造价——单项工程单价——建设项目总造价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、多样性   多次计价都有不同的依据，对工程造价的精度要求不同，计算方法多样性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、复杂性    由于影响造价的因素多、计价的依据复杂，种类繁多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三、工程造价的特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、大额性   几百万、上千万。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、个别性、差别性    一个工程一个样，造价都不同。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、动态性    工程造价在整个建设期间处于不确定状态，直到竣工时才能最终确定出实际造价。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、层次性   工程造价多层组合，层次性非常明显，怀小到大。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、兼容性   计划、投资、设计、施工都涉及造价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四、工程造价的职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、预测职能   无论投资者还是建筑商都要对似建工程进行预先预测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、控制职能   根据对造价的多层次的预估，进行全过程多层次的控制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、评价性    是评价总投资和分项投资的合理性和效益的依据，是评价建安企业管理水平和经营成果的依据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、调控性   对工程建设的物质消耗、建设规模、投资方向进行调控管理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B36E-74D3-46C3-84C4-9440959EF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5B3F-77FC-4BE5-9519-8D3EA5565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F7AF-03E2-489D-98C0-6978F0341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CBBC-6459-4D00-B48A-CAA76A60B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F328-E564-4263-A7B2-3BC7895A3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A0ED-8798-45F9-BC5D-0956A7902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DEA1-178A-4FB1-9F5B-56BBE0AEE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9B08-5058-4626-9D19-A680569CD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14358-37F5-43D6-96E9-C75ABA53E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9100D-2D9D-44E3-9F0E-060860897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8AFA-057C-40E1-820A-1E28C1B9F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78C0-F873-4A52-9C13-7FC9611D4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1D895-5F1B-4D73-BCAE-1D4F05C59FC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908000" y="1341360"/>
            <a:ext cx="47548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Times New Roman"/>
              </a:rPr>
              <a:t>第一节   基本建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763280" y="475920"/>
            <a:ext cx="4753440" cy="649440"/>
          </a:xfrm>
          <a:prstGeom prst="rect">
            <a:avLst/>
          </a:prstGeom>
          <a:solidFill>
            <a:srgbClr val="336699"/>
          </a:solidFill>
          <a:ln w="0">
            <a:noFill/>
          </a:ln>
          <a:effectLst>
            <a:outerShdw dist="45929" dir="2028877" blurRad="0" rotWithShape="0">
              <a:srgbClr val="c0c0c0"/>
            </a:outerShdw>
          </a:effectLst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19051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一、基本建设的概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371600" y="243828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8080"/>
                </a:solidFill>
                <a:latin typeface="Times New Roman"/>
              </a:rPr>
              <a:t>基本建设是国民经济各部门固定资产的再生产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4038480"/>
            <a:ext cx="3276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447920" y="2895480"/>
            <a:ext cx="304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二、基本建设的内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47920" y="35053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808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8080"/>
                </a:solidFill>
                <a:latin typeface="Times New Roman"/>
              </a:rPr>
              <a:t>、建筑工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447920" y="40384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808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8080"/>
                </a:solidFill>
                <a:latin typeface="Times New Roman"/>
              </a:rPr>
              <a:t>、设备安装工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47920" y="45720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808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8080"/>
                </a:solidFill>
                <a:latin typeface="Times New Roman"/>
              </a:rPr>
              <a:t>、设备购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447920" y="510552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808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8080"/>
                </a:solidFill>
                <a:latin typeface="Times New Roman"/>
              </a:rPr>
              <a:t>、工具、器具及生产家具的购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447920" y="56386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8080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008080"/>
                </a:solidFill>
                <a:latin typeface="Times New Roman"/>
              </a:rPr>
              <a:t>、其它基本建设工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867280" y="3200400"/>
            <a:ext cx="32767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75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0"/>
                            </p:stCondLst>
                            <p:childTnLst>
                              <p:par>
                                <p:cTn id="3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0000"/>
                            </p:stCondLst>
                            <p:childTnLst>
                              <p:par>
                                <p:cTn id="4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5000"/>
                            </p:stCondLst>
                            <p:childTnLst>
                              <p:par>
                                <p:cTn id="4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20000"/>
                            </p:stCondLst>
                            <p:childTnLst>
                              <p:par>
                                <p:cTn id="5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5000"/>
                            </p:stCondLst>
                            <p:childTnLst>
                              <p:par>
                                <p:cTn id="57" nodeType="afterEffect" fill="hold" presetClass="entr" presetID="1">
                                  <p:stCondLst>
                                    <p:cond delay="1100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95280" y="404640"/>
            <a:ext cx="49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三、基本建设项目的分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4038480"/>
            <a:ext cx="3276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2492280"/>
            <a:ext cx="1600200" cy="865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按建设性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的不同分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124000" y="29242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62040" y="1641600"/>
            <a:ext cx="20880" cy="243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462040" y="16416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462040" y="232740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482920" y="29289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482920" y="35053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843280" y="1488960"/>
            <a:ext cx="13716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新建项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843280" y="2098800"/>
            <a:ext cx="13716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扩建项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43280" y="2708280"/>
            <a:ext cx="13716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改建项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843280" y="3289320"/>
            <a:ext cx="13716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恢复项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643280" y="2492280"/>
            <a:ext cx="1600200" cy="792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按建设过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的不同分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243480" y="28861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624720" y="1971720"/>
            <a:ext cx="144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624720" y="19717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624720" y="2657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624720" y="32670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624720" y="387684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005600" y="1819440"/>
            <a:ext cx="13716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筹建项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005600" y="2428920"/>
            <a:ext cx="13716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施工项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005600" y="3038400"/>
            <a:ext cx="13716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投产项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005600" y="3648240"/>
            <a:ext cx="13716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收尾项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482920" y="40813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43280" y="3865680"/>
            <a:ext cx="13716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迁建项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54400" y="5105520"/>
            <a:ext cx="1600200" cy="718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按建设用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不同分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954600" y="54259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356000" y="508464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356000" y="508464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356000" y="580536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788000" y="4869000"/>
            <a:ext cx="25207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生产性建设项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788000" y="5589720"/>
            <a:ext cx="25207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非生产性建设项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050920" y="29242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00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50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3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3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4000"/>
                            </p:stCondLst>
                            <p:childTnLst>
                              <p:par>
                                <p:cTn id="95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3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8000"/>
                            </p:stCondLst>
                            <p:childTnLst>
                              <p:par>
                                <p:cTn id="100" nodeType="afterEffect" fill="hold" presetClass="entr" presetID="7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3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3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1500"/>
                            </p:stCondLst>
                            <p:childTnLst>
                              <p:par>
                                <p:cTn id="105" nodeType="afterEffect" fill="hold" presetClass="entr" presetID="7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0" nodeType="afterEffect" fill="hold" presetClass="entr" presetID="7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3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8500"/>
                            </p:stCondLst>
                            <p:childTnLst>
                              <p:par>
                                <p:cTn id="115" nodeType="afterEffect" fill="hold" presetClass="entr" presetID="7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3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3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500"/>
                            </p:stCondLst>
                            <p:childTnLst>
                              <p:par>
                                <p:cTn id="1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500"/>
                            </p:stCondLst>
                            <p:childTnLst>
                              <p:par>
                                <p:cTn id="1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3000"/>
                            </p:stCondLst>
                            <p:childTnLst>
                              <p:par>
                                <p:cTn id="1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3500"/>
                            </p:stCondLst>
                            <p:childTnLst>
                              <p:par>
                                <p:cTn id="144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3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3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7500"/>
                            </p:stCondLst>
                            <p:childTnLst>
                              <p:par>
                                <p:cTn id="149" nodeType="afterEffect" fill="hold" presetClass="entr" presetID="7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3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3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11000"/>
                            </p:stCondLst>
                            <p:childTnLst>
                              <p:par>
                                <p:cTn id="154" nodeType="afterEffect" fill="hold" presetClass="entr" presetID="7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4500"/>
                            </p:stCondLst>
                            <p:childTnLst>
                              <p:par>
                                <p:cTn id="159" nodeType="afterEffect" fill="hold" presetClass="entr" presetID="7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3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500"/>
                            </p:stCondLst>
                            <p:childTnLst>
                              <p:par>
                                <p:cTn id="1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000"/>
                            </p:stCondLst>
                            <p:childTnLst>
                              <p:par>
                                <p:cTn id="1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2500"/>
                            </p:stCondLst>
                            <p:childTnLst>
                              <p:par>
                                <p:cTn id="182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6500"/>
                            </p:stCondLst>
                            <p:childTnLst>
                              <p:par>
                                <p:cTn id="187" nodeType="afterEffect" fill="hold" presetClass="entr" presetID="7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3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3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95280" y="260280"/>
            <a:ext cx="511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三、基本建设项目的分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057400" y="5853240"/>
            <a:ext cx="3276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979640" y="4043520"/>
            <a:ext cx="1974960" cy="865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按资金来源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渠道不同分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954600" y="446256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356000" y="3573360"/>
            <a:ext cx="0" cy="2414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356000" y="357336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356000" y="4221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356000" y="48355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356000" y="54118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716360" y="3395520"/>
            <a:ext cx="259236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国家投资项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716360" y="4005360"/>
            <a:ext cx="259236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银行信用筹资项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716360" y="4614840"/>
            <a:ext cx="259236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自筹资金项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16360" y="5195880"/>
            <a:ext cx="259236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引进外资项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356000" y="59878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716360" y="5772240"/>
            <a:ext cx="259236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资金市场筹资项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425680" y="1620720"/>
            <a:ext cx="1943280" cy="792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按建设规模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投资多少分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368960" y="1981080"/>
            <a:ext cx="43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4787640" y="1333440"/>
            <a:ext cx="14040" cy="1231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802040" y="133344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802040" y="198108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788000" y="256536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219640" y="1163520"/>
            <a:ext cx="13716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大型项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219640" y="1773360"/>
            <a:ext cx="13716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中型项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19640" y="2382840"/>
            <a:ext cx="13716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小型项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000"/>
                            </p:stCondLst>
                            <p:childTnLst>
                              <p:par>
                                <p:cTn id="2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500"/>
                            </p:stCondLst>
                            <p:childTnLst>
                              <p:par>
                                <p:cTn id="2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2000"/>
                            </p:stCondLst>
                            <p:childTnLst>
                              <p:par>
                                <p:cTn id="2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2500"/>
                            </p:stCondLst>
                            <p:childTnLst>
                              <p:par>
                                <p:cTn id="2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3000"/>
                            </p:stCondLst>
                            <p:childTnLst>
                              <p:par>
                                <p:cTn id="22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3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3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6000"/>
                            </p:stCondLst>
                            <p:childTnLst>
                              <p:par>
                                <p:cTn id="22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3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3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9000"/>
                            </p:stCondLst>
                            <p:childTnLst>
                              <p:par>
                                <p:cTn id="23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3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3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1000"/>
                            </p:stCondLst>
                            <p:childTnLst>
                              <p:par>
                                <p:cTn id="2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500"/>
                            </p:stCondLst>
                            <p:childTnLst>
                              <p:par>
                                <p:cTn id="2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2000"/>
                            </p:stCondLst>
                            <p:childTnLst>
                              <p:par>
                                <p:cTn id="2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2500"/>
                            </p:stCondLst>
                            <p:childTnLst>
                              <p:par>
                                <p:cTn id="2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3500"/>
                            </p:stCondLst>
                            <p:childTnLst>
                              <p:par>
                                <p:cTn id="2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4000"/>
                            </p:stCondLst>
                            <p:childTnLst>
                              <p:par>
                                <p:cTn id="266" nodeType="afterEffect" fill="hold" presetClass="entr" presetID="7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3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8000"/>
                            </p:stCondLst>
                            <p:childTnLst>
                              <p:par>
                                <p:cTn id="271" nodeType="afterEffect" fill="hold" presetClass="entr" presetID="7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3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3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1500"/>
                            </p:stCondLst>
                            <p:childTnLst>
                              <p:par>
                                <p:cTn id="276" nodeType="afterEffect" fill="hold" presetClass="entr" presetID="7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3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3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5000"/>
                            </p:stCondLst>
                            <p:childTnLst>
                              <p:par>
                                <p:cTn id="281" nodeType="afterEffect" fill="hold" presetClass="entr" presetID="7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3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3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8500"/>
                            </p:stCondLst>
                            <p:childTnLst>
                              <p:par>
                                <p:cTn id="286" nodeType="afterEffect" fill="hold" presetClass="entr" presetID="7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3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3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468360" y="26028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四、基本建设程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057400" y="5853240"/>
            <a:ext cx="3276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3160" y="98028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基本建设程序就是基本建设工作中必须遵循的先后次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409680" y="1898280"/>
            <a:ext cx="8355960" cy="3982680"/>
            <a:chOff x="409680" y="1898280"/>
            <a:chExt cx="8355960" cy="3982680"/>
          </a:xfrm>
        </p:grpSpPr>
        <p:sp>
          <p:nvSpPr>
            <p:cNvPr id="122" name=""/>
            <p:cNvSpPr/>
            <p:nvPr/>
          </p:nvSpPr>
          <p:spPr>
            <a:xfrm>
              <a:off x="2086560" y="1920240"/>
              <a:ext cx="397800" cy="1585800"/>
            </a:xfrm>
            <a:prstGeom prst="rect">
              <a:avLst/>
            </a:prstGeom>
            <a:solidFill>
              <a:srgbClr val="ffffff">
                <a:alpha val="99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设计任务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711800" y="4442400"/>
              <a:ext cx="396360" cy="138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投资估算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871440" y="4536000"/>
              <a:ext cx="396360" cy="1344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修正概算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988720" y="1935000"/>
              <a:ext cx="394920" cy="138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初步设计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412800" y="5132160"/>
              <a:ext cx="462240" cy="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231920" y="1918800"/>
              <a:ext cx="396360" cy="1594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可行性研究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861360" y="1920240"/>
              <a:ext cx="394920" cy="1426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技术设计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769640" y="1913040"/>
              <a:ext cx="394920" cy="156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施工图设计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670000" y="1902600"/>
              <a:ext cx="396360" cy="1587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招标与投标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994840" y="4537440"/>
              <a:ext cx="398880" cy="1314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设计概算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783680" y="4217400"/>
              <a:ext cx="396360" cy="16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施工图预算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66760" y="4471920"/>
              <a:ext cx="396360" cy="1388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施工预算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431840" y="4458600"/>
              <a:ext cx="397800" cy="138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工程结算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649840" y="4281840"/>
              <a:ext cx="396360" cy="1584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标底与报价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420680" y="1902600"/>
              <a:ext cx="399960" cy="1332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工程施工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09680" y="1926000"/>
              <a:ext cx="362160" cy="241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72000" bIns="720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中长期发展规划划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753240" y="3239280"/>
              <a:ext cx="4680" cy="124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275360" y="5133240"/>
              <a:ext cx="52416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V="1">
              <a:off x="3415320" y="2755440"/>
              <a:ext cx="467280" cy="72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46560" y="2747160"/>
              <a:ext cx="517680" cy="14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149440" y="2755440"/>
              <a:ext cx="51552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6071400" y="2751480"/>
              <a:ext cx="486360" cy="12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176080" y="5124600"/>
              <a:ext cx="484560" cy="12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2517480" y="2743560"/>
              <a:ext cx="456840" cy="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2141280" y="5131800"/>
              <a:ext cx="809280" cy="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611840" y="3278520"/>
              <a:ext cx="7560" cy="1210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13440" y="2748240"/>
              <a:ext cx="548280" cy="72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625760" y="2752560"/>
              <a:ext cx="450720" cy="19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56720" y="2755440"/>
              <a:ext cx="462240" cy="11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8544960" y="3272760"/>
              <a:ext cx="2520" cy="118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370720" y="4464720"/>
              <a:ext cx="394920" cy="1381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竣工决算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341200" y="1914480"/>
              <a:ext cx="396360" cy="138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竣工验收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555600" y="1898280"/>
              <a:ext cx="401400" cy="134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Times New Roman"/>
                </a:rPr>
                <a:t>实施规划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V="1">
              <a:off x="6955560" y="2752560"/>
              <a:ext cx="440640" cy="10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071400" y="5132160"/>
              <a:ext cx="514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996240" y="5132160"/>
              <a:ext cx="446040" cy="54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858800" y="5133240"/>
              <a:ext cx="514440" cy="2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861160" y="3526920"/>
              <a:ext cx="1080" cy="795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4980600" y="3493080"/>
              <a:ext cx="2520" cy="744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065120" y="3377880"/>
              <a:ext cx="8640" cy="119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180960" y="3347280"/>
              <a:ext cx="1080" cy="119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909440" y="3941640"/>
              <a:ext cx="12600" cy="50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446840" y="3544200"/>
              <a:ext cx="0" cy="39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256480" y="3544200"/>
              <a:ext cx="0" cy="39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446840" y="3941640"/>
              <a:ext cx="80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9280" y="304920"/>
            <a:ext cx="7993080" cy="761760"/>
          </a:xfrm>
          <a:prstGeom prst="rect">
            <a:avLst/>
          </a:prstGeom>
          <a:solidFill>
            <a:srgbClr val="66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Times New Roman"/>
              </a:rPr>
              <a:t>第二节   建筑业在国民经济中的地位和作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39640" y="1916280"/>
            <a:ext cx="82090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建筑业是从事建筑安装工程的勘测设计、工程施工、设备安装和建筑工程更新维修等生产活动的一个物质生产部门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62120" y="3200400"/>
            <a:ext cx="4495680" cy="45972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二、建筑业在国民经济中的作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85800" y="373392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建筑业为国民经济各部门的发展提供了物质技术基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55640" y="42210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建筑业为不断改善人民物质文化生活水平提供各种设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55640" y="472428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建筑业是为国家增加积累和扩大创汇的重要部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55640" y="522936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建筑业是工业、交通运输业的重要市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826920" y="573408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建筑业为劳动就业提供重要市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26920" y="1268280"/>
            <a:ext cx="4648320" cy="45972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一、建筑业在国民经济中的地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761760" y="914400"/>
            <a:ext cx="3809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一、建设项目组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85800" y="14479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33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cc33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cc3300"/>
                </a:solidFill>
                <a:latin typeface="Times New Roman"/>
              </a:rPr>
              <a:t>、建设项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5800" y="20574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33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cc33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cc3300"/>
                </a:solidFill>
                <a:latin typeface="Times New Roman"/>
              </a:rPr>
              <a:t>、单项工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2666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33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cc33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cc3300"/>
                </a:solidFill>
                <a:latin typeface="Times New Roman"/>
              </a:rPr>
              <a:t>、单位工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2767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c3300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cc33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cc3300"/>
                </a:solidFill>
                <a:latin typeface="Times New Roman"/>
              </a:rPr>
              <a:t>、分部工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85800" y="38098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分项工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85800" y="434340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子项工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33520" y="48769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单项工程是指在一个建设项目中，具有独立的设计文件，竣工后可以独立发挥生产能力或效益的工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57200" y="5791320"/>
            <a:ext cx="8153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单位工程是指竣工后不能独立发挥生产能力或效益，但具有独立设计，可以独立组织施工的工程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186520" y="955800"/>
            <a:ext cx="121896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学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634080" y="4384800"/>
            <a:ext cx="12193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砌方整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186520" y="4384800"/>
            <a:ext cx="121896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整砌毛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738600" y="4384800"/>
            <a:ext cx="12193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砌毛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634080" y="3699000"/>
            <a:ext cx="1886040" cy="415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砌轻质砖砌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186520" y="3699000"/>
            <a:ext cx="121896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砌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738600" y="3699000"/>
            <a:ext cx="12193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砌黏土砖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634080" y="3013200"/>
            <a:ext cx="18860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钢筋及砼工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186520" y="3013200"/>
            <a:ext cx="121896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砌筑工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408480" y="3013200"/>
            <a:ext cx="15494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土石方工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634080" y="2327400"/>
            <a:ext cx="12193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采暖工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186520" y="2327400"/>
            <a:ext cx="121896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土建工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738600" y="2327400"/>
            <a:ext cx="12193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电气工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634080" y="1641600"/>
            <a:ext cx="12193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宿舍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186520" y="1641600"/>
            <a:ext cx="121896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教学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738600" y="1641600"/>
            <a:ext cx="12193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公办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796000" y="1336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348080" y="1488960"/>
            <a:ext cx="2895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348080" y="148896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243920" y="148896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796000" y="20224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348080" y="2174760"/>
            <a:ext cx="2895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348080" y="217476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243920" y="217476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6000" y="2708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348080" y="2860560"/>
            <a:ext cx="2895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348080" y="286056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243920" y="286056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796000" y="3394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348080" y="3546360"/>
            <a:ext cx="2895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348080" y="354636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243920" y="354636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796000" y="4079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348080" y="4232160"/>
            <a:ext cx="2895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348080" y="423216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243920" y="423216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304920"/>
            <a:ext cx="9144000" cy="5205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第三节   建设工程计价特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1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5000"/>
                            </p:stCondLst>
                            <p:childTnLst>
                              <p:par>
                                <p:cTn id="4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5500"/>
                            </p:stCondLst>
                            <p:childTnLst>
                              <p:par>
                                <p:cTn id="4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6000"/>
                            </p:stCondLst>
                            <p:childTnLst>
                              <p:par>
                                <p:cTn id="4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6500"/>
                            </p:stCondLst>
                            <p:childTnLst>
                              <p:par>
                                <p:cTn id="4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6" dur="5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5000"/>
                            </p:stCondLst>
                            <p:childTnLst>
                              <p:par>
                                <p:cTn id="4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5500"/>
                            </p:stCondLst>
                            <p:childTnLst>
                              <p:par>
                                <p:cTn id="4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6000"/>
                            </p:stCondLst>
                            <p:childTnLst>
                              <p:par>
                                <p:cTn id="4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6500"/>
                            </p:stCondLst>
                            <p:childTnLst>
                              <p:par>
                                <p:cTn id="4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5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5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5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5000"/>
                            </p:stCondLst>
                            <p:childTnLst>
                              <p:par>
                                <p:cTn id="4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5500"/>
                            </p:stCondLst>
                            <p:childTnLst>
                              <p:par>
                                <p:cTn id="4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6000"/>
                            </p:stCondLst>
                            <p:childTnLst>
                              <p:par>
                                <p:cTn id="5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6500"/>
                            </p:stCondLst>
                            <p:childTnLst>
                              <p:par>
                                <p:cTn id="5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5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5000"/>
                            </p:stCondLst>
                            <p:childTnLst>
                              <p:par>
                                <p:cTn id="5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5500"/>
                            </p:stCondLst>
                            <p:childTnLst>
                              <p:par>
                                <p:cTn id="5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6000"/>
                            </p:stCondLst>
                            <p:childTnLst>
                              <p:par>
                                <p:cTn id="5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6500"/>
                            </p:stCondLst>
                            <p:childTnLst>
                              <p:par>
                                <p:cTn id="5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5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5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5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5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5000"/>
                            </p:stCondLst>
                            <p:childTnLst>
                              <p:par>
                                <p:cTn id="5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5500"/>
                            </p:stCondLst>
                            <p:childTnLst>
                              <p:par>
                                <p:cTn id="5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6000"/>
                            </p:stCondLst>
                            <p:childTnLst>
                              <p:par>
                                <p:cTn id="5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6500"/>
                            </p:stCondLst>
                            <p:childTnLst>
                              <p:par>
                                <p:cTn id="5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0" dur="5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5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5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669960"/>
            <a:ext cx="37339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二、建筑产品及生产特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609120" y="1203480"/>
            <a:ext cx="16002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99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ff3399"/>
                </a:solidFill>
                <a:latin typeface="Times New Roman"/>
              </a:rPr>
              <a:t>）固定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209680" y="112716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556000" y="11970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99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ff3399"/>
                </a:solidFill>
                <a:latin typeface="Times New Roman"/>
              </a:rPr>
              <a:t>）单件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427640" y="1197000"/>
            <a:ext cx="20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99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ff3399"/>
                </a:solidFill>
                <a:latin typeface="Times New Roman"/>
              </a:rPr>
              <a:t>）露天作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516720" y="119700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99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ff3399"/>
                </a:solidFill>
                <a:latin typeface="Times New Roman"/>
              </a:rPr>
              <a:t>）生产周期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77880" y="24210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、工程造价的特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9280" y="31068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99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ff3399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ff3399"/>
                </a:solidFill>
                <a:latin typeface="Times New Roman"/>
              </a:rPr>
              <a:t>）大额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9280" y="363996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99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ff3399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ff3399"/>
                </a:solidFill>
                <a:latin typeface="Times New Roman"/>
              </a:rPr>
              <a:t>）个别性、差别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9280" y="41734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99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ff3399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ff3399"/>
                </a:solidFill>
                <a:latin typeface="Times New Roman"/>
              </a:rPr>
              <a:t>）动态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49280" y="470700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99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ff3399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ff3399"/>
                </a:solidFill>
                <a:latin typeface="Times New Roman"/>
              </a:rPr>
              <a:t>）层次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49280" y="51642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99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ff3399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ff3399"/>
                </a:solidFill>
                <a:latin typeface="Times New Roman"/>
              </a:rPr>
              <a:t>）兼容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716360" y="242100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、工程造价的职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16360" y="31068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99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ff3399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ff3399"/>
                </a:solidFill>
                <a:latin typeface="Times New Roman"/>
              </a:rPr>
              <a:t>）预测职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716360" y="37926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99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ff3399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ff3399"/>
                </a:solidFill>
                <a:latin typeface="Times New Roman"/>
              </a:rPr>
              <a:t>）控制职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716360" y="44784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99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ff3399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ff3399"/>
                </a:solidFill>
                <a:latin typeface="Times New Roman"/>
              </a:rPr>
              <a:t>）评价职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716360" y="5157720"/>
            <a:ext cx="243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99"/>
                </a:solidFill>
                <a:latin typeface="Times New Roman"/>
              </a:rPr>
              <a:t>（</a:t>
            </a:r>
            <a:r>
              <a:rPr b="0" lang="zh-CN" sz="2400" spc="-1" strike="noStrike">
                <a:solidFill>
                  <a:srgbClr val="ff3399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ff3399"/>
                </a:solidFill>
                <a:latin typeface="Times New Roman"/>
              </a:rPr>
              <a:t>）调控职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84360" y="1701720"/>
            <a:ext cx="44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三、工程造价的特点和职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3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3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3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3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3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3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4114800" cy="5335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四、工程造价的作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" y="106668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建设工程造价是项目决策的工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85800" y="15238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建设工程造价是制定投资计划和控制投资的有效工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85800" y="198108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建设工程造价是筹集建设资金的依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85800" y="24382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建设工程造价是合理利益分配和调节产业结构的手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5800" y="289548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建设工程造价是评价投资效果的重要指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85800" y="3581280"/>
            <a:ext cx="5867280" cy="5205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五、工程造价改革的内容和任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85800" y="434340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改革现行工程定额管理方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85800" y="480060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加强工程造价信息的收集、处理和发布工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84360" y="522936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对政府投资工程和非政府投资工程实行不同的定价方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85800" y="57150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、加强对工程造价的监督管理，逐步建立工程造价的监督检查制度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3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3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18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694" dur="3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7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9" dur="3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0" dur="3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3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3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07" dur="3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12" dur="3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17" dur="3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22" dur="3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7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7" dur="3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3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3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3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35" dur="3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3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3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3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3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18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748" dur="3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124000" y="476280"/>
            <a:ext cx="43228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第四节  基本建设预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209680" y="83808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33520" y="1523880"/>
            <a:ext cx="99036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可行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研究阶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52480" y="1523880"/>
            <a:ext cx="99072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初步设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阶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971800" y="1523880"/>
            <a:ext cx="99072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技术设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阶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191120" y="1523880"/>
            <a:ext cx="99036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施工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设计阶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410080" y="1523880"/>
            <a:ext cx="99072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招标投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阶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629400" y="1523880"/>
            <a:ext cx="99072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合同实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阶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848720" y="1523880"/>
            <a:ext cx="99036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竣工验收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阶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33520" y="2438280"/>
            <a:ext cx="99036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投资估算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752480" y="2438280"/>
            <a:ext cx="99072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概算造价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971800" y="2438280"/>
            <a:ext cx="99072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修正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概算造价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191120" y="2438280"/>
            <a:ext cx="99036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预算造价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410080" y="2438280"/>
            <a:ext cx="99072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合同价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629400" y="2438280"/>
            <a:ext cx="99072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结算价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848720" y="2438280"/>
            <a:ext cx="99036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实际造价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523880" y="1828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743200" y="1828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620120" y="1828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400800" y="1828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181480" y="1828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962520" y="18288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2743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0120" y="2743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181480" y="2743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962520" y="2743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743200" y="2743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523880" y="2743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990720" y="2133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209680" y="2133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505320" y="2133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724280" y="2133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943600" y="2133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162920" y="2133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8305920" y="2133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9" dur="indefinite" restart="never" nodeType="tmRoot">
          <p:childTnLst>
            <p:seq>
              <p:cTn id="750" dur="indefinite" nodeType="mainSeq">
                <p:childTnLst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3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3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2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6" fill="hold">
                            <p:stCondLst>
                              <p:cond delay="1000"/>
                            </p:stCondLst>
                            <p:childTnLst>
                              <p:par>
                                <p:cTn id="7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fill="hold">
                            <p:stCondLst>
                              <p:cond delay="1000"/>
                            </p:stCondLst>
                            <p:childTnLst>
                              <p:par>
                                <p:cTn id="7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4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9" fill="hold">
                            <p:stCondLst>
                              <p:cond delay="1000"/>
                            </p:stCondLst>
                            <p:childTnLst>
                              <p:par>
                                <p:cTn id="8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0" fill="hold">
                            <p:stCondLst>
                              <p:cond delay="1000"/>
                            </p:stCondLst>
                            <p:childTnLst>
                              <p:par>
                                <p:cTn id="8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1" fill="hold">
                            <p:stCondLst>
                              <p:cond delay="1000"/>
                            </p:stCondLst>
                            <p:childTnLst>
                              <p:par>
                                <p:cTn id="8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8" dur="5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5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fill="hold">
                            <p:stCondLst>
                              <p:cond delay="5000"/>
                            </p:stCondLst>
                            <p:childTnLst>
                              <p:par>
                                <p:cTn id="8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5500"/>
                            </p:stCondLst>
                            <p:childTnLst>
                              <p:par>
                                <p:cTn id="8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0" dur="5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5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fill="hold">
                            <p:stCondLst>
                              <p:cond delay="5000"/>
                            </p:stCondLst>
                            <p:childTnLst>
                              <p:par>
                                <p:cTn id="8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fill="hold">
                            <p:stCondLst>
                              <p:cond delay="5500"/>
                            </p:stCondLst>
                            <p:childTnLst>
                              <p:par>
                                <p:cTn id="8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2" dur="5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5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4" fill="hold">
                            <p:stCondLst>
                              <p:cond delay="5000"/>
                            </p:stCondLst>
                            <p:childTnLst>
                              <p:par>
                                <p:cTn id="8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fill="hold">
                            <p:stCondLst>
                              <p:cond delay="5500"/>
                            </p:stCondLst>
                            <p:childTnLst>
                              <p:par>
                                <p:cTn id="8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4" dur="5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5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fill="hold">
                            <p:stCondLst>
                              <p:cond delay="5000"/>
                            </p:stCondLst>
                            <p:childTnLst>
                              <p:par>
                                <p:cTn id="8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fill="hold">
                            <p:stCondLst>
                              <p:cond delay="5500"/>
                            </p:stCondLst>
                            <p:childTnLst>
                              <p:par>
                                <p:cTn id="8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6" dur="5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5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8" fill="hold">
                            <p:stCondLst>
                              <p:cond delay="5000"/>
                            </p:stCondLst>
                            <p:childTnLst>
                              <p:par>
                                <p:cTn id="8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1" fill="hold">
                            <p:stCondLst>
                              <p:cond delay="5500"/>
                            </p:stCondLst>
                            <p:childTnLst>
                              <p:par>
                                <p:cTn id="8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8" dur="5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5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0" fill="hold">
                            <p:stCondLst>
                              <p:cond delay="5000"/>
                            </p:stCondLst>
                            <p:childTnLst>
                              <p:par>
                                <p:cTn id="9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3" fill="hold">
                            <p:stCondLst>
                              <p:cond delay="5500"/>
                            </p:stCondLst>
                            <p:childTnLst>
                              <p:par>
                                <p:cTn id="9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0" dur="5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5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12-19T08:42:10Z</dcterms:modified>
  <cp:revision>73</cp:revision>
  <dc:subject/>
  <dc:title>PowerPoint Presentation</dc:title>
</cp:coreProperties>
</file>